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14.pct" ContentType="image/x-pict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176-87D3-45D6-8C89-206519E9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9BB1-896A-4B84-B343-99461568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40939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DF74-DD95-4DEC-B85E-CA31AB45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4080" y="19047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0600" y="19047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4080" y="40939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0600" y="40939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BAE0-12A2-4C60-8C67-55626183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8399-1FAE-4B39-B352-9E20894B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DEAD-AC46-4255-BF97-8DD9FB18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AED6-DD8D-468E-A20A-29131E76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150C-0F0B-49CF-B3BA-02406A2D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B680-59EE-4332-9BF3-451AD3E2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7BB3-ED4E-4C77-B6CA-2C69CB88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0FB8-2534-468D-8F11-A3AC4947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8D7-74C0-4E5F-9454-50EF8A15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5360" y="40939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870A-0948-441B-8C15-CB7A8DCA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0BA3-B815-4DC6-9098-B6DD6693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9392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4D38-BDAB-44D6-8932-C4D2B7D1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5360" y="40939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5E6DA-BAC5-46A9-8E4B-AAC4640C2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4080" y="19047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0600" y="190476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939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4080" y="40939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0600" y="4093920"/>
            <a:ext cx="262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6ED1-BB46-45B4-82E7-B451C136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289-5C0E-4546-9033-D51AA269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A54-863A-448D-B6F7-DCC45E14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D4FD-FE36-42E7-A95D-EBBF26AE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BDE4-F3EF-4797-BCC1-7C0D2600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63E2-F366-44B5-92B5-A418BE03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409392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8827-D770-46D8-B6B0-1AD285CA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904760"/>
            <a:ext cx="39787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93920"/>
            <a:ext cx="81532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8481-CF2E-426F-9781-EE4E359B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5e574e"/>
                </a:solidFill>
                <a:latin typeface="Arial"/>
              </a:rPr>
              <a:t>Daniel.Guerreau - Conseil Scientifique de Département - 6/5/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416B-B94A-44D2-BBB6-0E5CAD969E05}" type="slidenum">
              <a:rPr b="0" lang="fr-F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222960"/>
            <a:ext cx="1219320" cy="635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848720" y="6240600"/>
            <a:ext cx="1290600" cy="61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1832-E7E9-436B-91ED-E5DAD9333AAE}" type="slidenum">
              <a:rPr b="0" lang="fr-FR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838080" y="2282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8483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ACTIVITÉS INTERDISCIPLINAI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33cc"/>
                </a:solidFill>
                <a:uFillTx/>
                <a:latin typeface="Arial Black"/>
              </a:rPr>
              <a:t>PROGRAMMES INTERDISCIPLINAIRES DU CN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Arial Black"/>
              </a:rPr>
              <a:t>- </a:t>
            </a:r>
            <a:r>
              <a:rPr b="0" lang="fr-FR" sz="2400" spc="-1" strike="noStrike">
                <a:solidFill>
                  <a:srgbClr val="ff0000"/>
                </a:solidFill>
                <a:latin typeface="Arial Black"/>
              </a:rPr>
              <a:t>PACE:</a:t>
            </a:r>
            <a:r>
              <a:rPr b="0" lang="fr-FR" sz="2400" spc="-1" strike="noStrike">
                <a:solidFill>
                  <a:srgbClr val="0066ff"/>
                </a:solidFill>
                <a:latin typeface="Arial Black"/>
              </a:rPr>
              <a:t> </a:t>
            </a:r>
            <a:r>
              <a:rPr b="0" lang="fr-FR" sz="2400" spc="-1" strike="noStrike">
                <a:solidFill>
                  <a:srgbClr val="0033cc"/>
                </a:solidFill>
                <a:latin typeface="Arial Black"/>
              </a:rPr>
              <a:t>Aval du cycle électronuclé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 Black"/>
              </a:rPr>
              <a:t>	</a:t>
            </a:r>
            <a:r>
              <a:rPr b="0" lang="fr-FR" sz="2400" spc="-1" strike="noStrike">
                <a:solidFill>
                  <a:srgbClr val="0033cc"/>
                </a:solidFill>
                <a:latin typeface="Arial Black"/>
              </a:rPr>
              <a:t>(physique nucléaire et radiochimi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Arial Black"/>
              </a:rPr>
              <a:t>- </a:t>
            </a:r>
            <a:r>
              <a:rPr b="0" lang="fr-FR" sz="2400" spc="-1" strike="noStrike">
                <a:solidFill>
                  <a:srgbClr val="ff0000"/>
                </a:solidFill>
                <a:latin typeface="Arial Black"/>
              </a:rPr>
              <a:t>ENERGIE:</a:t>
            </a:r>
            <a:r>
              <a:rPr b="0" lang="fr-FR" sz="2400" spc="-1" strike="noStrike">
                <a:solidFill>
                  <a:srgbClr val="0066ff"/>
                </a:solidFill>
                <a:latin typeface="Arial Black"/>
              </a:rPr>
              <a:t> </a:t>
            </a:r>
            <a:r>
              <a:rPr b="0" lang="fr-FR" sz="2400" spc="-1" strike="noStrike">
                <a:solidFill>
                  <a:srgbClr val="0033cc"/>
                </a:solidFill>
                <a:latin typeface="Arial Black"/>
              </a:rPr>
              <a:t>solutions innovantes pour l ’énergie nuclé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Arial Black"/>
              </a:rPr>
              <a:t>- </a:t>
            </a:r>
            <a:r>
              <a:rPr b="0" lang="fr-FR" sz="2400" spc="-1" strike="noStrike">
                <a:solidFill>
                  <a:srgbClr val="ff0000"/>
                </a:solidFill>
                <a:latin typeface="Arial Black"/>
              </a:rPr>
              <a:t>IMAGERIE DU PETIT ANIMA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Arial Black"/>
              </a:rPr>
              <a:t>- </a:t>
            </a:r>
            <a:r>
              <a:rPr b="0" lang="fr-FR" sz="2400" spc="-1" strike="noStrike">
                <a:solidFill>
                  <a:srgbClr val="ff0000"/>
                </a:solidFill>
                <a:latin typeface="Arial Black"/>
              </a:rPr>
              <a:t>Et…</a:t>
            </a:r>
            <a:r>
              <a:rPr b="0" lang="fr-FR" sz="2400" spc="-1" strike="noStrike">
                <a:solidFill>
                  <a:srgbClr val="0066ff"/>
                </a:solidFill>
                <a:latin typeface="Arial Black"/>
              </a:rPr>
              <a:t> </a:t>
            </a:r>
            <a:r>
              <a:rPr b="0" lang="fr-FR" sz="2400" spc="-1" strike="noStrike">
                <a:solidFill>
                  <a:srgbClr val="0033cc"/>
                </a:solidFill>
                <a:latin typeface="Arial Black"/>
              </a:rPr>
              <a:t>Exobiologie, mesures de basse activité, faibles doses, SMA, matériaux,agrégats…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 Black"/>
              </a:rPr>
              <a:t>(Physique théoriqu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787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658680" y="0"/>
            <a:ext cx="20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niel GUERRE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400" spc="-1" strike="noStrike">
                <a:solidFill>
                  <a:srgbClr val="000000"/>
                </a:solidFill>
                <a:latin typeface="Arial Black"/>
              </a:rPr>
              <a:t>Mesures de basse Radioactivité</a:t>
            </a:r>
            <a:br>
              <a:rPr sz="3400"/>
            </a:b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lermont, Grenoble, Nantes, Orsay, Strasbourg, Modane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981080"/>
            <a:ext cx="8610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simétr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asses radioactivités dans l ’environn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éochimie - datation - vol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urveillance de l’atmosph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a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MART (Subatech), RAMSES (I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1143000"/>
            <a:ext cx="893448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3320" y="6507000"/>
            <a:ext cx="127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Audition Office Par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69000" y="650700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nt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18720" y="6508800"/>
            <a:ext cx="1273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13 Septembre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391520" y="6411960"/>
            <a:ext cx="1395360" cy="26820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527040" y="1084320"/>
            <a:ext cx="8047800" cy="4965480"/>
            <a:chOff x="527040" y="1084320"/>
            <a:chExt cx="8047800" cy="49654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746280" y="3776760"/>
              <a:ext cx="2369880" cy="19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6396120" y="3854520"/>
              <a:ext cx="1915920" cy="159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3362400" y="3664080"/>
              <a:ext cx="2757240" cy="23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614680" y="1089000"/>
              <a:ext cx="3927240" cy="140508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04960" y="1084320"/>
              <a:ext cx="3942000" cy="141444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08160" y="1455840"/>
              <a:ext cx="3183120" cy="625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98800" y="1447920"/>
              <a:ext cx="3198960" cy="637920"/>
            </a:xfrm>
            <a:prstGeom prst="rect">
              <a:avLst/>
            </a:prstGeom>
            <a:noFill/>
            <a:ln w="64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78880" y="1538280"/>
              <a:ext cx="33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Ph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95680" y="153828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65520" y="1538280"/>
              <a:ext cx="560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ique 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02280" y="153828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11360" y="15382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63200" y="153828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09640" y="1538280"/>
              <a:ext cx="15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50760" y="1538280"/>
              <a:ext cx="17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18160" y="1538280"/>
              <a:ext cx="412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tiè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37200" y="153828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46640" y="1538280"/>
              <a:ext cx="14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85240" y="15382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76320" y="1538280"/>
              <a:ext cx="343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nd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95640" y="153828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96440" y="1538280"/>
              <a:ext cx="30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sé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82120" y="1757520"/>
              <a:ext cx="33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Ph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98920" y="175752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71280" y="1757520"/>
              <a:ext cx="44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iqu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4280" y="1757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07680" y="1757520"/>
              <a:ext cx="6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86880" y="175752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45560" y="175752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21160" y="1757520"/>
              <a:ext cx="393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him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95920" y="1757520"/>
              <a:ext cx="109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97800" y="1757520"/>
              <a:ext cx="27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68880" y="175752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47000" y="1757520"/>
              <a:ext cx="22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55800" y="1757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72440" y="1757520"/>
              <a:ext cx="30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tér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86000" y="17575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82120" y="1757520"/>
              <a:ext cx="218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u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45080" y="1830240"/>
              <a:ext cx="3009960" cy="1278000"/>
            </a:xfrm>
            <a:custGeom>
              <a:avLst/>
              <a:gdLst/>
              <a:ahLst/>
              <a:rect l="l" t="t" r="r" b="b"/>
              <a:pathLst>
                <a:path w="1896" h="805">
                  <a:moveTo>
                    <a:pt x="946" y="0"/>
                  </a:moveTo>
                  <a:lnTo>
                    <a:pt x="848" y="3"/>
                  </a:lnTo>
                  <a:lnTo>
                    <a:pt x="757" y="9"/>
                  </a:lnTo>
                  <a:lnTo>
                    <a:pt x="665" y="18"/>
                  </a:lnTo>
                  <a:lnTo>
                    <a:pt x="577" y="32"/>
                  </a:lnTo>
                  <a:lnTo>
                    <a:pt x="495" y="50"/>
                  </a:lnTo>
                  <a:lnTo>
                    <a:pt x="416" y="71"/>
                  </a:lnTo>
                  <a:lnTo>
                    <a:pt x="344" y="94"/>
                  </a:lnTo>
                  <a:lnTo>
                    <a:pt x="276" y="120"/>
                  </a:lnTo>
                  <a:lnTo>
                    <a:pt x="245" y="133"/>
                  </a:lnTo>
                  <a:lnTo>
                    <a:pt x="215" y="149"/>
                  </a:lnTo>
                  <a:lnTo>
                    <a:pt x="186" y="164"/>
                  </a:lnTo>
                  <a:lnTo>
                    <a:pt x="161" y="180"/>
                  </a:lnTo>
                  <a:lnTo>
                    <a:pt x="137" y="197"/>
                  </a:lnTo>
                  <a:lnTo>
                    <a:pt x="114" y="213"/>
                  </a:lnTo>
                  <a:lnTo>
                    <a:pt x="92" y="231"/>
                  </a:lnTo>
                  <a:lnTo>
                    <a:pt x="73" y="249"/>
                  </a:lnTo>
                  <a:lnTo>
                    <a:pt x="57" y="266"/>
                  </a:lnTo>
                  <a:lnTo>
                    <a:pt x="41" y="286"/>
                  </a:lnTo>
                  <a:lnTo>
                    <a:pt x="30" y="306"/>
                  </a:lnTo>
                  <a:lnTo>
                    <a:pt x="18" y="325"/>
                  </a:lnTo>
                  <a:lnTo>
                    <a:pt x="10" y="345"/>
                  </a:lnTo>
                  <a:lnTo>
                    <a:pt x="4" y="366"/>
                  </a:lnTo>
                  <a:lnTo>
                    <a:pt x="0" y="385"/>
                  </a:lnTo>
                  <a:lnTo>
                    <a:pt x="0" y="406"/>
                  </a:lnTo>
                  <a:lnTo>
                    <a:pt x="0" y="426"/>
                  </a:lnTo>
                  <a:lnTo>
                    <a:pt x="4" y="445"/>
                  </a:lnTo>
                  <a:lnTo>
                    <a:pt x="10" y="467"/>
                  </a:lnTo>
                  <a:lnTo>
                    <a:pt x="20" y="486"/>
                  </a:lnTo>
                  <a:lnTo>
                    <a:pt x="30" y="506"/>
                  </a:lnTo>
                  <a:lnTo>
                    <a:pt x="43" y="525"/>
                  </a:lnTo>
                  <a:lnTo>
                    <a:pt x="57" y="543"/>
                  </a:lnTo>
                  <a:lnTo>
                    <a:pt x="75" y="561"/>
                  </a:lnTo>
                  <a:lnTo>
                    <a:pt x="94" y="580"/>
                  </a:lnTo>
                  <a:lnTo>
                    <a:pt x="114" y="597"/>
                  </a:lnTo>
                  <a:lnTo>
                    <a:pt x="137" y="613"/>
                  </a:lnTo>
                  <a:lnTo>
                    <a:pt x="162" y="629"/>
                  </a:lnTo>
                  <a:lnTo>
                    <a:pt x="190" y="646"/>
                  </a:lnTo>
                  <a:lnTo>
                    <a:pt x="217" y="660"/>
                  </a:lnTo>
                  <a:lnTo>
                    <a:pt x="248" y="675"/>
                  </a:lnTo>
                  <a:lnTo>
                    <a:pt x="280" y="688"/>
                  </a:lnTo>
                  <a:lnTo>
                    <a:pt x="346" y="714"/>
                  </a:lnTo>
                  <a:lnTo>
                    <a:pt x="418" y="738"/>
                  </a:lnTo>
                  <a:lnTo>
                    <a:pt x="499" y="758"/>
                  </a:lnTo>
                  <a:lnTo>
                    <a:pt x="581" y="774"/>
                  </a:lnTo>
                  <a:lnTo>
                    <a:pt x="669" y="787"/>
                  </a:lnTo>
                  <a:lnTo>
                    <a:pt x="758" y="797"/>
                  </a:lnTo>
                  <a:lnTo>
                    <a:pt x="852" y="803"/>
                  </a:lnTo>
                  <a:lnTo>
                    <a:pt x="950" y="805"/>
                  </a:lnTo>
                  <a:lnTo>
                    <a:pt x="1048" y="802"/>
                  </a:lnTo>
                  <a:lnTo>
                    <a:pt x="1141" y="795"/>
                  </a:lnTo>
                  <a:lnTo>
                    <a:pt x="1231" y="787"/>
                  </a:lnTo>
                  <a:lnTo>
                    <a:pt x="1319" y="772"/>
                  </a:lnTo>
                  <a:lnTo>
                    <a:pt x="1401" y="755"/>
                  </a:lnTo>
                  <a:lnTo>
                    <a:pt x="1480" y="733"/>
                  </a:lnTo>
                  <a:lnTo>
                    <a:pt x="1554" y="711"/>
                  </a:lnTo>
                  <a:lnTo>
                    <a:pt x="1620" y="685"/>
                  </a:lnTo>
                  <a:lnTo>
                    <a:pt x="1651" y="672"/>
                  </a:lnTo>
                  <a:lnTo>
                    <a:pt x="1681" y="655"/>
                  </a:lnTo>
                  <a:lnTo>
                    <a:pt x="1708" y="641"/>
                  </a:lnTo>
                  <a:lnTo>
                    <a:pt x="1735" y="626"/>
                  </a:lnTo>
                  <a:lnTo>
                    <a:pt x="1759" y="608"/>
                  </a:lnTo>
                  <a:lnTo>
                    <a:pt x="1782" y="592"/>
                  </a:lnTo>
                  <a:lnTo>
                    <a:pt x="1804" y="574"/>
                  </a:lnTo>
                  <a:lnTo>
                    <a:pt x="1821" y="556"/>
                  </a:lnTo>
                  <a:lnTo>
                    <a:pt x="1839" y="538"/>
                  </a:lnTo>
                  <a:lnTo>
                    <a:pt x="1853" y="520"/>
                  </a:lnTo>
                  <a:lnTo>
                    <a:pt x="1866" y="499"/>
                  </a:lnTo>
                  <a:lnTo>
                    <a:pt x="1878" y="480"/>
                  </a:lnTo>
                  <a:lnTo>
                    <a:pt x="1886" y="460"/>
                  </a:lnTo>
                  <a:lnTo>
                    <a:pt x="1892" y="441"/>
                  </a:lnTo>
                  <a:lnTo>
                    <a:pt x="1894" y="419"/>
                  </a:lnTo>
                  <a:lnTo>
                    <a:pt x="1896" y="400"/>
                  </a:lnTo>
                  <a:lnTo>
                    <a:pt x="1894" y="379"/>
                  </a:lnTo>
                  <a:lnTo>
                    <a:pt x="1892" y="359"/>
                  </a:lnTo>
                  <a:lnTo>
                    <a:pt x="1886" y="338"/>
                  </a:lnTo>
                  <a:lnTo>
                    <a:pt x="1876" y="319"/>
                  </a:lnTo>
                  <a:lnTo>
                    <a:pt x="1866" y="299"/>
                  </a:lnTo>
                  <a:lnTo>
                    <a:pt x="1853" y="280"/>
                  </a:lnTo>
                  <a:lnTo>
                    <a:pt x="1837" y="260"/>
                  </a:lnTo>
                  <a:lnTo>
                    <a:pt x="1821" y="244"/>
                  </a:lnTo>
                  <a:lnTo>
                    <a:pt x="1802" y="226"/>
                  </a:lnTo>
                  <a:lnTo>
                    <a:pt x="1780" y="208"/>
                  </a:lnTo>
                  <a:lnTo>
                    <a:pt x="1757" y="192"/>
                  </a:lnTo>
                  <a:lnTo>
                    <a:pt x="1732" y="175"/>
                  </a:lnTo>
                  <a:lnTo>
                    <a:pt x="1706" y="159"/>
                  </a:lnTo>
                  <a:lnTo>
                    <a:pt x="1679" y="144"/>
                  </a:lnTo>
                  <a:lnTo>
                    <a:pt x="1650" y="130"/>
                  </a:lnTo>
                  <a:lnTo>
                    <a:pt x="1618" y="115"/>
                  </a:lnTo>
                  <a:lnTo>
                    <a:pt x="1550" y="91"/>
                  </a:lnTo>
                  <a:lnTo>
                    <a:pt x="1476" y="66"/>
                  </a:lnTo>
                  <a:lnTo>
                    <a:pt x="1397" y="47"/>
                  </a:lnTo>
                  <a:lnTo>
                    <a:pt x="1315" y="31"/>
                  </a:lnTo>
                  <a:lnTo>
                    <a:pt x="1227" y="18"/>
                  </a:lnTo>
                  <a:lnTo>
                    <a:pt x="1138" y="8"/>
                  </a:lnTo>
                  <a:lnTo>
                    <a:pt x="1044" y="1"/>
                  </a:lnTo>
                  <a:lnTo>
                    <a:pt x="946" y="0"/>
                  </a:lnTo>
                  <a:lnTo>
                    <a:pt x="946" y="0"/>
                  </a:lnTo>
                  <a:close/>
                </a:path>
              </a:pathLst>
            </a:custGeom>
            <a:solidFill>
              <a:srgbClr val="ffff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50160" y="2239920"/>
              <a:ext cx="1361880" cy="498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10080" y="2328840"/>
              <a:ext cx="11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24200" y="23288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14200" y="2328840"/>
              <a:ext cx="28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d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81680" y="232884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89680" y="2328840"/>
              <a:ext cx="16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49520" y="232884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90200" y="23288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87760" y="232884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5760" y="2328840"/>
              <a:ext cx="15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i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58680" y="2546280"/>
              <a:ext cx="122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69560" y="2546280"/>
              <a:ext cx="235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p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89160" y="2546280"/>
              <a:ext cx="49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43160" y="2546280"/>
              <a:ext cx="14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i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782840" y="2546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86160" y="2546280"/>
              <a:ext cx="23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t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115120" y="2546280"/>
              <a:ext cx="11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220600" y="254628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7040" y="1830240"/>
              <a:ext cx="3036960" cy="1278000"/>
            </a:xfrm>
            <a:custGeom>
              <a:avLst/>
              <a:gdLst/>
              <a:ahLst/>
              <a:rect l="l" t="t" r="r" b="b"/>
              <a:pathLst>
                <a:path w="1913" h="805">
                  <a:moveTo>
                    <a:pt x="951" y="0"/>
                  </a:moveTo>
                  <a:lnTo>
                    <a:pt x="854" y="3"/>
                  </a:lnTo>
                  <a:lnTo>
                    <a:pt x="758" y="11"/>
                  </a:lnTo>
                  <a:lnTo>
                    <a:pt x="666" y="21"/>
                  </a:lnTo>
                  <a:lnTo>
                    <a:pt x="578" y="36"/>
                  </a:lnTo>
                  <a:lnTo>
                    <a:pt x="494" y="53"/>
                  </a:lnTo>
                  <a:lnTo>
                    <a:pt x="416" y="75"/>
                  </a:lnTo>
                  <a:lnTo>
                    <a:pt x="342" y="99"/>
                  </a:lnTo>
                  <a:lnTo>
                    <a:pt x="275" y="125"/>
                  </a:lnTo>
                  <a:lnTo>
                    <a:pt x="244" y="138"/>
                  </a:lnTo>
                  <a:lnTo>
                    <a:pt x="213" y="154"/>
                  </a:lnTo>
                  <a:lnTo>
                    <a:pt x="187" y="169"/>
                  </a:lnTo>
                  <a:lnTo>
                    <a:pt x="160" y="185"/>
                  </a:lnTo>
                  <a:lnTo>
                    <a:pt x="134" y="201"/>
                  </a:lnTo>
                  <a:lnTo>
                    <a:pt x="113" y="219"/>
                  </a:lnTo>
                  <a:lnTo>
                    <a:pt x="91" y="237"/>
                  </a:lnTo>
                  <a:lnTo>
                    <a:pt x="72" y="255"/>
                  </a:lnTo>
                  <a:lnTo>
                    <a:pt x="56" y="273"/>
                  </a:lnTo>
                  <a:lnTo>
                    <a:pt x="41" y="293"/>
                  </a:lnTo>
                  <a:lnTo>
                    <a:pt x="27" y="312"/>
                  </a:lnTo>
                  <a:lnTo>
                    <a:pt x="17" y="332"/>
                  </a:lnTo>
                  <a:lnTo>
                    <a:pt x="9" y="351"/>
                  </a:lnTo>
                  <a:lnTo>
                    <a:pt x="2" y="372"/>
                  </a:lnTo>
                  <a:lnTo>
                    <a:pt x="0" y="392"/>
                  </a:lnTo>
                  <a:lnTo>
                    <a:pt x="0" y="413"/>
                  </a:lnTo>
                  <a:lnTo>
                    <a:pt x="2" y="432"/>
                  </a:lnTo>
                  <a:lnTo>
                    <a:pt x="3" y="452"/>
                  </a:lnTo>
                  <a:lnTo>
                    <a:pt x="9" y="473"/>
                  </a:lnTo>
                  <a:lnTo>
                    <a:pt x="19" y="493"/>
                  </a:lnTo>
                  <a:lnTo>
                    <a:pt x="31" y="512"/>
                  </a:lnTo>
                  <a:lnTo>
                    <a:pt x="43" y="532"/>
                  </a:lnTo>
                  <a:lnTo>
                    <a:pt x="58" y="550"/>
                  </a:lnTo>
                  <a:lnTo>
                    <a:pt x="76" y="567"/>
                  </a:lnTo>
                  <a:lnTo>
                    <a:pt x="97" y="587"/>
                  </a:lnTo>
                  <a:lnTo>
                    <a:pt x="117" y="603"/>
                  </a:lnTo>
                  <a:lnTo>
                    <a:pt x="140" y="620"/>
                  </a:lnTo>
                  <a:lnTo>
                    <a:pt x="166" y="636"/>
                  </a:lnTo>
                  <a:lnTo>
                    <a:pt x="193" y="652"/>
                  </a:lnTo>
                  <a:lnTo>
                    <a:pt x="220" y="667"/>
                  </a:lnTo>
                  <a:lnTo>
                    <a:pt x="252" y="680"/>
                  </a:lnTo>
                  <a:lnTo>
                    <a:pt x="285" y="693"/>
                  </a:lnTo>
                  <a:lnTo>
                    <a:pt x="351" y="720"/>
                  </a:lnTo>
                  <a:lnTo>
                    <a:pt x="426" y="742"/>
                  </a:lnTo>
                  <a:lnTo>
                    <a:pt x="506" y="759"/>
                  </a:lnTo>
                  <a:lnTo>
                    <a:pt x="590" y="777"/>
                  </a:lnTo>
                  <a:lnTo>
                    <a:pt x="678" y="789"/>
                  </a:lnTo>
                  <a:lnTo>
                    <a:pt x="768" y="798"/>
                  </a:lnTo>
                  <a:lnTo>
                    <a:pt x="865" y="803"/>
                  </a:lnTo>
                  <a:lnTo>
                    <a:pt x="961" y="805"/>
                  </a:lnTo>
                  <a:lnTo>
                    <a:pt x="1059" y="802"/>
                  </a:lnTo>
                  <a:lnTo>
                    <a:pt x="1154" y="794"/>
                  </a:lnTo>
                  <a:lnTo>
                    <a:pt x="1246" y="784"/>
                  </a:lnTo>
                  <a:lnTo>
                    <a:pt x="1334" y="769"/>
                  </a:lnTo>
                  <a:lnTo>
                    <a:pt x="1418" y="751"/>
                  </a:lnTo>
                  <a:lnTo>
                    <a:pt x="1496" y="730"/>
                  </a:lnTo>
                  <a:lnTo>
                    <a:pt x="1571" y="707"/>
                  </a:lnTo>
                  <a:lnTo>
                    <a:pt x="1637" y="680"/>
                  </a:lnTo>
                  <a:lnTo>
                    <a:pt x="1670" y="667"/>
                  </a:lnTo>
                  <a:lnTo>
                    <a:pt x="1700" y="650"/>
                  </a:lnTo>
                  <a:lnTo>
                    <a:pt x="1727" y="636"/>
                  </a:lnTo>
                  <a:lnTo>
                    <a:pt x="1754" y="620"/>
                  </a:lnTo>
                  <a:lnTo>
                    <a:pt x="1778" y="603"/>
                  </a:lnTo>
                  <a:lnTo>
                    <a:pt x="1801" y="587"/>
                  </a:lnTo>
                  <a:lnTo>
                    <a:pt x="1823" y="567"/>
                  </a:lnTo>
                  <a:lnTo>
                    <a:pt x="1840" y="550"/>
                  </a:lnTo>
                  <a:lnTo>
                    <a:pt x="1858" y="532"/>
                  </a:lnTo>
                  <a:lnTo>
                    <a:pt x="1872" y="512"/>
                  </a:lnTo>
                  <a:lnTo>
                    <a:pt x="1885" y="493"/>
                  </a:lnTo>
                  <a:lnTo>
                    <a:pt x="1895" y="473"/>
                  </a:lnTo>
                  <a:lnTo>
                    <a:pt x="1905" y="454"/>
                  </a:lnTo>
                  <a:lnTo>
                    <a:pt x="1909" y="434"/>
                  </a:lnTo>
                  <a:lnTo>
                    <a:pt x="1913" y="413"/>
                  </a:lnTo>
                  <a:lnTo>
                    <a:pt x="1913" y="392"/>
                  </a:lnTo>
                  <a:lnTo>
                    <a:pt x="1913" y="372"/>
                  </a:lnTo>
                  <a:lnTo>
                    <a:pt x="1909" y="353"/>
                  </a:lnTo>
                  <a:lnTo>
                    <a:pt x="1901" y="332"/>
                  </a:lnTo>
                  <a:lnTo>
                    <a:pt x="1893" y="312"/>
                  </a:lnTo>
                  <a:lnTo>
                    <a:pt x="1881" y="293"/>
                  </a:lnTo>
                  <a:lnTo>
                    <a:pt x="1870" y="273"/>
                  </a:lnTo>
                  <a:lnTo>
                    <a:pt x="1854" y="255"/>
                  </a:lnTo>
                  <a:lnTo>
                    <a:pt x="1836" y="237"/>
                  </a:lnTo>
                  <a:lnTo>
                    <a:pt x="1815" y="219"/>
                  </a:lnTo>
                  <a:lnTo>
                    <a:pt x="1795" y="201"/>
                  </a:lnTo>
                  <a:lnTo>
                    <a:pt x="1772" y="185"/>
                  </a:lnTo>
                  <a:lnTo>
                    <a:pt x="1747" y="169"/>
                  </a:lnTo>
                  <a:lnTo>
                    <a:pt x="1719" y="154"/>
                  </a:lnTo>
                  <a:lnTo>
                    <a:pt x="1692" y="138"/>
                  </a:lnTo>
                  <a:lnTo>
                    <a:pt x="1663" y="125"/>
                  </a:lnTo>
                  <a:lnTo>
                    <a:pt x="1629" y="112"/>
                  </a:lnTo>
                  <a:lnTo>
                    <a:pt x="1561" y="84"/>
                  </a:lnTo>
                  <a:lnTo>
                    <a:pt x="1487" y="63"/>
                  </a:lnTo>
                  <a:lnTo>
                    <a:pt x="1407" y="45"/>
                  </a:lnTo>
                  <a:lnTo>
                    <a:pt x="1324" y="27"/>
                  </a:lnTo>
                  <a:lnTo>
                    <a:pt x="1235" y="16"/>
                  </a:lnTo>
                  <a:lnTo>
                    <a:pt x="1145" y="6"/>
                  </a:lnTo>
                  <a:lnTo>
                    <a:pt x="1049" y="1"/>
                  </a:lnTo>
                  <a:lnTo>
                    <a:pt x="951" y="0"/>
                  </a:lnTo>
                  <a:lnTo>
                    <a:pt x="951" y="0"/>
                  </a:lnTo>
                  <a:close/>
                </a:path>
              </a:pathLst>
            </a:custGeom>
            <a:solidFill>
              <a:srgbClr val="ffff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671400" y="2239920"/>
              <a:ext cx="1940040" cy="501840"/>
              <a:chOff x="671400" y="2239920"/>
              <a:chExt cx="1940040" cy="50184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671400" y="2239920"/>
                <a:ext cx="1936800" cy="498600"/>
                <a:chOff x="671400" y="2239920"/>
                <a:chExt cx="1936800" cy="49860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671400" y="2239920"/>
                  <a:ext cx="1936800" cy="4986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71400" y="2239920"/>
                  <a:ext cx="1936800" cy="49860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71400" y="2239920"/>
                  <a:ext cx="1936800" cy="49860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671400" y="2239920"/>
                <a:ext cx="1940040" cy="501840"/>
              </a:xfrm>
              <a:prstGeom prst="rect">
                <a:avLst/>
              </a:prstGeom>
              <a:noFill/>
              <a:ln w="32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962640" y="2328840"/>
              <a:ext cx="33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Ph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9440" y="232884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51800" y="2328840"/>
              <a:ext cx="44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iqu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94240" y="2328840"/>
              <a:ext cx="191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55160" y="2328840"/>
              <a:ext cx="686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omiq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77200" y="2546280"/>
              <a:ext cx="17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65840" y="2546280"/>
              <a:ext cx="5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01840" y="2546280"/>
              <a:ext cx="17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480" y="254628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59240" y="2546280"/>
              <a:ext cx="15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lé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18360" y="2546280"/>
              <a:ext cx="92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2600" y="2546280"/>
              <a:ext cx="16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u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55240" y="25462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62520" y="2546280"/>
              <a:ext cx="23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ff0000"/>
                  </a:solidFill>
                  <a:latin typeface="Comic Sans MS"/>
                </a:rPr>
                <a:t>i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19640" y="5443560"/>
              <a:ext cx="2435400" cy="428760"/>
            </a:xfrm>
            <a:custGeom>
              <a:avLst/>
              <a:gdLst/>
              <a:ahLst/>
              <a:rect l="l" t="t" r="r" b="b"/>
              <a:pathLst>
                <a:path w="1534" h="270">
                  <a:moveTo>
                    <a:pt x="64" y="0"/>
                  </a:moveTo>
                  <a:lnTo>
                    <a:pt x="51" y="1"/>
                  </a:lnTo>
                  <a:lnTo>
                    <a:pt x="39" y="3"/>
                  </a:lnTo>
                  <a:lnTo>
                    <a:pt x="27" y="8"/>
                  </a:lnTo>
                  <a:lnTo>
                    <a:pt x="17" y="14"/>
                  </a:lnTo>
                  <a:lnTo>
                    <a:pt x="10" y="24"/>
                  </a:lnTo>
                  <a:lnTo>
                    <a:pt x="4" y="34"/>
                  </a:lnTo>
                  <a:lnTo>
                    <a:pt x="0" y="43"/>
                  </a:lnTo>
                  <a:lnTo>
                    <a:pt x="0" y="55"/>
                  </a:lnTo>
                  <a:lnTo>
                    <a:pt x="0" y="216"/>
                  </a:lnTo>
                  <a:lnTo>
                    <a:pt x="0" y="226"/>
                  </a:lnTo>
                  <a:lnTo>
                    <a:pt x="4" y="235"/>
                  </a:lnTo>
                  <a:lnTo>
                    <a:pt x="10" y="245"/>
                  </a:lnTo>
                  <a:lnTo>
                    <a:pt x="17" y="255"/>
                  </a:lnTo>
                  <a:lnTo>
                    <a:pt x="27" y="261"/>
                  </a:lnTo>
                  <a:lnTo>
                    <a:pt x="39" y="266"/>
                  </a:lnTo>
                  <a:lnTo>
                    <a:pt x="51" y="270"/>
                  </a:lnTo>
                  <a:lnTo>
                    <a:pt x="64" y="270"/>
                  </a:lnTo>
                  <a:lnTo>
                    <a:pt x="1467" y="270"/>
                  </a:lnTo>
                  <a:lnTo>
                    <a:pt x="1481" y="270"/>
                  </a:lnTo>
                  <a:lnTo>
                    <a:pt x="1493" y="266"/>
                  </a:lnTo>
                  <a:lnTo>
                    <a:pt x="1504" y="261"/>
                  </a:lnTo>
                  <a:lnTo>
                    <a:pt x="1516" y="255"/>
                  </a:lnTo>
                  <a:lnTo>
                    <a:pt x="1524" y="245"/>
                  </a:lnTo>
                  <a:lnTo>
                    <a:pt x="1530" y="235"/>
                  </a:lnTo>
                  <a:lnTo>
                    <a:pt x="1532" y="226"/>
                  </a:lnTo>
                  <a:lnTo>
                    <a:pt x="1534" y="216"/>
                  </a:lnTo>
                  <a:lnTo>
                    <a:pt x="1534" y="55"/>
                  </a:lnTo>
                  <a:lnTo>
                    <a:pt x="1532" y="43"/>
                  </a:lnTo>
                  <a:lnTo>
                    <a:pt x="1530" y="34"/>
                  </a:lnTo>
                  <a:lnTo>
                    <a:pt x="1524" y="24"/>
                  </a:lnTo>
                  <a:lnTo>
                    <a:pt x="1516" y="14"/>
                  </a:lnTo>
                  <a:lnTo>
                    <a:pt x="1504" y="8"/>
                  </a:lnTo>
                  <a:lnTo>
                    <a:pt x="1493" y="3"/>
                  </a:lnTo>
                  <a:lnTo>
                    <a:pt x="1481" y="1"/>
                  </a:lnTo>
                  <a:lnTo>
                    <a:pt x="1467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99080" y="55609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95200" y="5560920"/>
              <a:ext cx="18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69800" y="5560920"/>
              <a:ext cx="6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36040" y="556092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86520" y="5560920"/>
              <a:ext cx="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48800" y="556092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71120" y="556092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43200" y="556092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s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23200" y="556092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08520" y="5560920"/>
              <a:ext cx="15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33440" y="5560920"/>
              <a:ext cx="30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m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909560" y="55609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69320" y="5560920"/>
              <a:ext cx="27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mi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13760" y="556092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293680" y="5560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79000" y="556092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52280" y="5727600"/>
              <a:ext cx="6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14200" y="57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88720" y="572760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11120" y="57276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86360" y="5727600"/>
              <a:ext cx="277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-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048440" y="57276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39160" y="57276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237080" y="57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319520" y="5727600"/>
              <a:ext cx="11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36520" y="5727600"/>
              <a:ext cx="4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(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93040" y="5727600"/>
              <a:ext cx="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55320" y="57276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88880" y="572760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836480" y="5727600"/>
              <a:ext cx="13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62480" y="572760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028720" y="5727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15480" y="5727600"/>
              <a:ext cx="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77760" y="57276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99720" y="572760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71080" y="572760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43440" y="5727600"/>
              <a:ext cx="4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1400" y="5443560"/>
              <a:ext cx="2349720" cy="428760"/>
            </a:xfrm>
            <a:custGeom>
              <a:avLst/>
              <a:gdLst/>
              <a:ahLst/>
              <a:rect l="l" t="t" r="r" b="b"/>
              <a:pathLst>
                <a:path w="1480" h="270">
                  <a:moveTo>
                    <a:pt x="53" y="0"/>
                  </a:moveTo>
                  <a:lnTo>
                    <a:pt x="41" y="1"/>
                  </a:lnTo>
                  <a:lnTo>
                    <a:pt x="32" y="3"/>
                  </a:lnTo>
                  <a:lnTo>
                    <a:pt x="24" y="8"/>
                  </a:lnTo>
                  <a:lnTo>
                    <a:pt x="16" y="13"/>
                  </a:lnTo>
                  <a:lnTo>
                    <a:pt x="8" y="19"/>
                  </a:lnTo>
                  <a:lnTo>
                    <a:pt x="4" y="27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4" y="242"/>
                  </a:lnTo>
                  <a:lnTo>
                    <a:pt x="8" y="250"/>
                  </a:lnTo>
                  <a:lnTo>
                    <a:pt x="16" y="257"/>
                  </a:lnTo>
                  <a:lnTo>
                    <a:pt x="24" y="261"/>
                  </a:lnTo>
                  <a:lnTo>
                    <a:pt x="32" y="266"/>
                  </a:lnTo>
                  <a:lnTo>
                    <a:pt x="41" y="270"/>
                  </a:lnTo>
                  <a:lnTo>
                    <a:pt x="53" y="270"/>
                  </a:lnTo>
                  <a:lnTo>
                    <a:pt x="1425" y="270"/>
                  </a:lnTo>
                  <a:lnTo>
                    <a:pt x="1435" y="270"/>
                  </a:lnTo>
                  <a:lnTo>
                    <a:pt x="1446" y="266"/>
                  </a:lnTo>
                  <a:lnTo>
                    <a:pt x="1454" y="261"/>
                  </a:lnTo>
                  <a:lnTo>
                    <a:pt x="1464" y="257"/>
                  </a:lnTo>
                  <a:lnTo>
                    <a:pt x="1470" y="250"/>
                  </a:lnTo>
                  <a:lnTo>
                    <a:pt x="1474" y="242"/>
                  </a:lnTo>
                  <a:lnTo>
                    <a:pt x="1478" y="235"/>
                  </a:lnTo>
                  <a:lnTo>
                    <a:pt x="1480" y="226"/>
                  </a:lnTo>
                  <a:lnTo>
                    <a:pt x="1480" y="45"/>
                  </a:lnTo>
                  <a:lnTo>
                    <a:pt x="1478" y="35"/>
                  </a:lnTo>
                  <a:lnTo>
                    <a:pt x="1474" y="27"/>
                  </a:lnTo>
                  <a:lnTo>
                    <a:pt x="1470" y="19"/>
                  </a:lnTo>
                  <a:lnTo>
                    <a:pt x="1464" y="13"/>
                  </a:lnTo>
                  <a:lnTo>
                    <a:pt x="1454" y="8"/>
                  </a:lnTo>
                  <a:lnTo>
                    <a:pt x="1446" y="3"/>
                  </a:lnTo>
                  <a:lnTo>
                    <a:pt x="1435" y="1"/>
                  </a:lnTo>
                  <a:lnTo>
                    <a:pt x="1425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211040" y="1992240"/>
              <a:ext cx="5739120" cy="3916800"/>
              <a:chOff x="1211040" y="1992240"/>
              <a:chExt cx="5739120" cy="3916800"/>
            </a:xfrm>
          </p:grpSpPr>
          <p:sp>
            <p:nvSpPr>
              <p:cNvPr id="258" name=""/>
              <p:cNvSpPr/>
              <p:nvPr/>
            </p:nvSpPr>
            <p:spPr>
              <a:xfrm>
                <a:off x="1221480" y="5554800"/>
                <a:ext cx="182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C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382760" y="55548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462680" y="5554800"/>
                <a:ext cx="12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81480" y="5554800"/>
                <a:ext cx="113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688040" y="555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773360" y="55548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t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867680" y="55548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41480" y="55548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030760" y="555480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074320" y="5554800"/>
                <a:ext cx="46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119320" y="55548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02480" y="5554800"/>
                <a:ext cx="206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lo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400120" y="5554800"/>
                <a:ext cx="120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k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509920" y="55548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586240" y="55548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675520" y="5554800"/>
                <a:ext cx="46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211040" y="572616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237320" y="5716440"/>
                <a:ext cx="58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91320" y="5716440"/>
                <a:ext cx="58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ff0000"/>
                    </a:solidFill>
                    <a:latin typeface="Comic Sans MS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348560" y="5716440"/>
                <a:ext cx="58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ff0000"/>
                    </a:solidFill>
                    <a:latin typeface="Comic Sans MS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418040" y="5726160"/>
                <a:ext cx="111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531800" y="5726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 </a:t>
                </a: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624680" y="572616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712880" y="5726160"/>
                <a:ext cx="12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4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847160" y="572616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45800" y="5726160"/>
                <a:ext cx="41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82160" y="5726160"/>
                <a:ext cx="13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110320" y="57261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193120" y="5726160"/>
                <a:ext cx="92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288880" y="5726160"/>
                <a:ext cx="46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41800" y="572616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373120" y="572616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454480" y="572616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482200" y="5716440"/>
                <a:ext cx="58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ff0000"/>
                    </a:solidFill>
                    <a:latin typeface="Comic Sans MS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36200" y="5716440"/>
                <a:ext cx="58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ff0000"/>
                    </a:solidFill>
                    <a:latin typeface="Comic Sans MS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16840" y="5726160"/>
                <a:ext cx="12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0000"/>
                    </a:solidFill>
                    <a:latin typeface="Comic Sans MS"/>
                  </a:rPr>
                  <a:t>S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712960" y="2806560"/>
                <a:ext cx="3828960" cy="1282680"/>
              </a:xfrm>
              <a:prstGeom prst="ellips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703600" y="2800440"/>
                <a:ext cx="3843360" cy="129672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24360" y="3111480"/>
                <a:ext cx="3271680" cy="6685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317760" y="3203640"/>
                <a:ext cx="135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48440" y="3203640"/>
                <a:ext cx="122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564720" y="3203640"/>
                <a:ext cx="1044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665160" y="3203640"/>
                <a:ext cx="346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her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04640" y="3203640"/>
                <a:ext cx="1044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00040" y="3203640"/>
                <a:ext cx="256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h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64280" y="3203640"/>
                <a:ext cx="234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s I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08360" y="3203640"/>
                <a:ext cx="135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33640" y="3203640"/>
                <a:ext cx="2005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t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938840" y="3203640"/>
                <a:ext cx="22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rd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59160" y="3203640"/>
                <a:ext cx="1609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i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320440" y="3203640"/>
                <a:ext cx="1044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25920" y="3203640"/>
                <a:ext cx="57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474160" y="3203640"/>
                <a:ext cx="1897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pl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639040" y="3203640"/>
                <a:ext cx="1911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in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11480" y="3203640"/>
                <a:ext cx="122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925960" y="3203640"/>
                <a:ext cx="57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988600" y="3203640"/>
                <a:ext cx="907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77520" y="3203640"/>
                <a:ext cx="1227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94520" y="3203640"/>
                <a:ext cx="1044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7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04280" y="3443400"/>
                <a:ext cx="5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065120" y="3443400"/>
                <a:ext cx="150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208040" y="3443400"/>
                <a:ext cx="23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r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36640" y="3443400"/>
                <a:ext cx="7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16200" y="3443400"/>
                <a:ext cx="55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78840" y="344340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610880" y="34434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687200" y="3443400"/>
                <a:ext cx="135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15360" y="344340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47400" y="34434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913280" y="3443400"/>
                <a:ext cx="287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-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175720" y="34434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261040" y="34434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361480" y="3443400"/>
                <a:ext cx="234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è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92280" y="3608280"/>
                <a:ext cx="79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71480" y="3608280"/>
                <a:ext cx="156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629160" y="3608280"/>
                <a:ext cx="55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87480" y="360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63800" y="3608280"/>
                <a:ext cx="208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s 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965400" y="360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037040" y="36082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24520" y="3608280"/>
                <a:ext cx="7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200480" y="36082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98760" y="360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é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79400" y="3608280"/>
                <a:ext cx="7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55000" y="36082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501080" y="360828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d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633560" y="360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17080" y="3608280"/>
                <a:ext cx="8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802400" y="3608280"/>
                <a:ext cx="7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875480" y="36082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922640" y="3608280"/>
                <a:ext cx="55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979520" y="360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065560" y="3608280"/>
                <a:ext cx="55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118840" y="3608280"/>
                <a:ext cx="133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34040" y="3608280"/>
                <a:ext cx="259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 é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477400" y="360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569560" y="360828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06360" y="3608280"/>
                <a:ext cx="63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65040" y="36082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38840" y="36082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926680" y="36082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946840" y="3608280"/>
                <a:ext cx="18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q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114600" y="36082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521080" y="1992240"/>
                <a:ext cx="2068560" cy="81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728080" y="2081160"/>
                <a:ext cx="104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830680" y="2081160"/>
                <a:ext cx="69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96560" y="2081160"/>
                <a:ext cx="9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993040" y="2081160"/>
                <a:ext cx="79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71520" y="2081160"/>
                <a:ext cx="9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167640" y="2081160"/>
                <a:ext cx="79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242160" y="2081160"/>
                <a:ext cx="303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sus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540960" y="208116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636720" y="2081160"/>
                <a:ext cx="9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1040" y="2081160"/>
                <a:ext cx="43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81080" y="2081160"/>
                <a:ext cx="162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947760" y="2081160"/>
                <a:ext cx="43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988440" y="2081160"/>
                <a:ext cx="9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076640" y="2081160"/>
                <a:ext cx="180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x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266360" y="2081160"/>
                <a:ext cx="60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338360" y="2081160"/>
                <a:ext cx="43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374360" y="2081160"/>
                <a:ext cx="99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460040" y="2081160"/>
                <a:ext cx="102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885040" y="22780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985840" y="227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55320" y="2278080"/>
                <a:ext cx="32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mi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367440" y="22780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398040" y="22780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473640" y="2278080"/>
                <a:ext cx="259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 é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717000" y="227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808800" y="227808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45960" y="2278080"/>
                <a:ext cx="63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004280" y="22780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079880" y="2278080"/>
                <a:ext cx="135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197240" y="22780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272840" y="22780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354200" y="227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885040" y="24462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991240" y="2446200"/>
                <a:ext cx="14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14460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14440" y="24462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290760" y="2446200"/>
                <a:ext cx="168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s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39080" y="24462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26560" y="2446200"/>
                <a:ext cx="63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00360" y="2446200"/>
                <a:ext cx="180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 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791160" y="2446200"/>
                <a:ext cx="55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854880" y="244620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899880" y="2446200"/>
                <a:ext cx="63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956760" y="2446200"/>
                <a:ext cx="210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l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161240" y="2446200"/>
                <a:ext cx="8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93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324320" y="24462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18640" y="24462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94240" y="24462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67640" y="26146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255840" y="261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339720" y="26146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391920" y="2614680"/>
                <a:ext cx="7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l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472560" y="261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é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546360" y="26146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628080" y="2614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05480" y="2614680"/>
                <a:ext cx="15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r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856320" y="26146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899520" y="2614680"/>
                <a:ext cx="12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03560" y="2614680"/>
                <a:ext cx="27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dé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253400" y="26146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336560" y="2614680"/>
                <a:ext cx="7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03880" y="26146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é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686480" y="1992240"/>
                <a:ext cx="2263680" cy="81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904640" y="2081160"/>
                <a:ext cx="9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003640" y="2081160"/>
                <a:ext cx="162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t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163480" y="2081160"/>
                <a:ext cx="101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259240" y="2081160"/>
                <a:ext cx="9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353920" y="2081160"/>
                <a:ext cx="14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496120" y="2081160"/>
                <a:ext cx="172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70000" y="2081160"/>
                <a:ext cx="144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826240" y="2081160"/>
                <a:ext cx="150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éf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985000" y="2081160"/>
                <a:ext cx="93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063480" y="2081160"/>
                <a:ext cx="102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168960" y="2081160"/>
                <a:ext cx="601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38440" y="2081160"/>
                <a:ext cx="79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316920" y="2081160"/>
                <a:ext cx="43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366960" y="2081160"/>
                <a:ext cx="43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403320" y="2081160"/>
                <a:ext cx="102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489360" y="2081160"/>
                <a:ext cx="203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du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693120" y="208116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300" spc="-1" strike="noStrike">
                    <a:solidFill>
                      <a:srgbClr val="000000"/>
                    </a:solidFill>
                    <a:latin typeface="Comic Sans MS"/>
                  </a:rPr>
                  <a:t>i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047200" y="227808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131440" y="2278080"/>
                <a:ext cx="241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355720" y="2278080"/>
                <a:ext cx="156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492160" y="2278080"/>
                <a:ext cx="18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p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669280" y="22780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706720" y="2278080"/>
                <a:ext cx="7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74400" y="2278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861160" y="22780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t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953680" y="227808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029280" y="227808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047200" y="2446200"/>
                <a:ext cx="89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-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128200" y="2446200"/>
                <a:ext cx="276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Ch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80200" y="24462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454000" y="2446200"/>
                <a:ext cx="180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601960" y="2446200"/>
                <a:ext cx="22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Comic Sans MS"/>
                  </a:rPr>
                  <a:t>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>
              <a:off x="5803920" y="24462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94280" y="24462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029640" y="24462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62040" y="2446200"/>
              <a:ext cx="18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37720" y="24462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263640" y="2446200"/>
              <a:ext cx="18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p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434640" y="244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11320" y="244620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81520" y="2446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47200" y="26114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53400" y="261144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06760" y="261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76960" y="26114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52920" y="26114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01240" y="26114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88720" y="2611440"/>
              <a:ext cx="6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65760" y="26114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61880" y="26114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9720" y="261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200" y="2611440"/>
              <a:ext cx="1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182280" y="261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67600" y="2611440"/>
              <a:ext cx="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29880" y="261144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66600" y="2611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50120" y="261144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79760" y="5443560"/>
              <a:ext cx="2435400" cy="428760"/>
            </a:xfrm>
            <a:custGeom>
              <a:avLst/>
              <a:gdLst/>
              <a:ahLst/>
              <a:rect l="l" t="t" r="r" b="b"/>
              <a:pathLst>
                <a:path w="1534" h="270">
                  <a:moveTo>
                    <a:pt x="53" y="0"/>
                  </a:moveTo>
                  <a:lnTo>
                    <a:pt x="43" y="1"/>
                  </a:lnTo>
                  <a:lnTo>
                    <a:pt x="33" y="3"/>
                  </a:lnTo>
                  <a:lnTo>
                    <a:pt x="23" y="8"/>
                  </a:lnTo>
                  <a:lnTo>
                    <a:pt x="15" y="13"/>
                  </a:lnTo>
                  <a:lnTo>
                    <a:pt x="10" y="19"/>
                  </a:lnTo>
                  <a:lnTo>
                    <a:pt x="4" y="27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0" y="226"/>
                  </a:lnTo>
                  <a:lnTo>
                    <a:pt x="2" y="235"/>
                  </a:lnTo>
                  <a:lnTo>
                    <a:pt x="4" y="242"/>
                  </a:lnTo>
                  <a:lnTo>
                    <a:pt x="10" y="250"/>
                  </a:lnTo>
                  <a:lnTo>
                    <a:pt x="15" y="257"/>
                  </a:lnTo>
                  <a:lnTo>
                    <a:pt x="23" y="261"/>
                  </a:lnTo>
                  <a:lnTo>
                    <a:pt x="33" y="266"/>
                  </a:lnTo>
                  <a:lnTo>
                    <a:pt x="43" y="270"/>
                  </a:lnTo>
                  <a:lnTo>
                    <a:pt x="53" y="270"/>
                  </a:lnTo>
                  <a:lnTo>
                    <a:pt x="1479" y="270"/>
                  </a:lnTo>
                  <a:lnTo>
                    <a:pt x="1491" y="270"/>
                  </a:lnTo>
                  <a:lnTo>
                    <a:pt x="1501" y="266"/>
                  </a:lnTo>
                  <a:lnTo>
                    <a:pt x="1510" y="261"/>
                  </a:lnTo>
                  <a:lnTo>
                    <a:pt x="1518" y="257"/>
                  </a:lnTo>
                  <a:lnTo>
                    <a:pt x="1524" y="250"/>
                  </a:lnTo>
                  <a:lnTo>
                    <a:pt x="1528" y="242"/>
                  </a:lnTo>
                  <a:lnTo>
                    <a:pt x="1532" y="235"/>
                  </a:lnTo>
                  <a:lnTo>
                    <a:pt x="1534" y="226"/>
                  </a:lnTo>
                  <a:lnTo>
                    <a:pt x="1534" y="45"/>
                  </a:lnTo>
                  <a:lnTo>
                    <a:pt x="1532" y="35"/>
                  </a:lnTo>
                  <a:lnTo>
                    <a:pt x="1528" y="27"/>
                  </a:lnTo>
                  <a:lnTo>
                    <a:pt x="1524" y="19"/>
                  </a:lnTo>
                  <a:lnTo>
                    <a:pt x="1518" y="13"/>
                  </a:lnTo>
                  <a:lnTo>
                    <a:pt x="1510" y="8"/>
                  </a:lnTo>
                  <a:lnTo>
                    <a:pt x="1501" y="3"/>
                  </a:lnTo>
                  <a:lnTo>
                    <a:pt x="1491" y="1"/>
                  </a:lnTo>
                  <a:lnTo>
                    <a:pt x="1479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ffff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17520" y="55548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07880" y="5554800"/>
              <a:ext cx="34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rac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56720" y="555480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d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484880" y="55548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59400" y="55548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44720" y="55548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88280" y="55548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08080" y="555480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on 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27760" y="55548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62760" y="55548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248800" y="55548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64640" y="555480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478120" y="55548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514120" y="5554800"/>
              <a:ext cx="25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à 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735000" y="572616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06360" y="5726160"/>
              <a:ext cx="11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028760" y="5726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08320" y="5726160"/>
              <a:ext cx="19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c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99840" y="572616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99920" y="5726160"/>
              <a:ext cx="3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26920" y="5726160"/>
              <a:ext cx="18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u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96480" y="5726160"/>
              <a:ext cx="12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22120" y="572616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83320" y="5726160"/>
              <a:ext cx="18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49280" y="5726160"/>
              <a:ext cx="18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n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29280" y="5726160"/>
              <a:ext cx="1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l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279760" y="572616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n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92520" y="5726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79640" y="572616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604840" y="5726160"/>
              <a:ext cx="1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74040" y="572616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41720" y="5726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7040" y="2865600"/>
              <a:ext cx="2449440" cy="112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4760" y="295416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82360" y="295416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é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74160" y="2954160"/>
              <a:ext cx="172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c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35800" y="295416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231560" y="29541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62160" y="2954160"/>
              <a:ext cx="32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s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76800" y="295416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58160" y="2954160"/>
              <a:ext cx="136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é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96760" y="29541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5200" y="2954160"/>
              <a:ext cx="340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ém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140560" y="295416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3880" y="295416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309760" y="295416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98320" y="29541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449800" y="295416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21080" y="2954160"/>
              <a:ext cx="172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887760" y="31464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88560" y="314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76760" y="3146400"/>
              <a:ext cx="8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62440" y="314640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1640" y="31464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338840" y="314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24160" y="3146400"/>
              <a:ext cx="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86440" y="31464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508400" y="314640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87760" y="331632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90000" y="3316320"/>
              <a:ext cx="14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30040" y="3316320"/>
              <a:ext cx="135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259280" y="331632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21920" y="3316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07960" y="3316320"/>
              <a:ext cx="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61240" y="3316320"/>
              <a:ext cx="133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76440" y="331632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87760" y="34844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87840" y="3484440"/>
              <a:ext cx="15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44800" y="34844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27600" y="3484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298520" y="34844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374840" y="348444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g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578600" y="34844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65000" y="3484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748880" y="348444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91000" y="348444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857600" y="34844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34280" y="3484440"/>
              <a:ext cx="32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r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9080" y="3651120"/>
              <a:ext cx="105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5920" y="365112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32760" y="3651120"/>
              <a:ext cx="172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ll.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06640" y="365112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200240" y="3651120"/>
              <a:ext cx="104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t.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10040" y="3651120"/>
              <a:ext cx="237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d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36120" y="365112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12520" y="365112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58960" y="3651120"/>
              <a:ext cx="21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l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977480" y="365112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23560" y="365112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98080" y="365112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92040" y="365112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37760" y="365112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78440" y="3651120"/>
              <a:ext cx="194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470680" y="365112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9080" y="3844800"/>
              <a:ext cx="105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38448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18360" y="38448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08000" y="38448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98000" y="38448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144080" y="384480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190160" y="384480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265040" y="384480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63680" y="38448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70960" y="384480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55200" y="384480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53200" y="2865600"/>
              <a:ext cx="2305080" cy="1022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66320" y="2954160"/>
              <a:ext cx="125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98440" y="295416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668640" y="29541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15800" y="2954160"/>
              <a:ext cx="165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l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80320" y="295416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977880" y="295416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49520" y="29541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85880" y="295416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177320" y="2954160"/>
              <a:ext cx="14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n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11960" y="295416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411320" y="295416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503840" y="295416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83760" y="295416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630560" y="2954160"/>
              <a:ext cx="101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26320" y="295416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é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27480" y="2954160"/>
              <a:ext cx="15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f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987320" y="2954160"/>
              <a:ext cx="24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u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613920" y="314640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08240" y="3146400"/>
              <a:ext cx="13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826320" y="3146400"/>
              <a:ext cx="18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001280" y="31464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53840" y="314640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f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151400" y="3146400"/>
              <a:ext cx="15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310520" y="31464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04840" y="314640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80440" y="314640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67920" y="31464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00320" y="3146400"/>
              <a:ext cx="18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773480" y="3146400"/>
              <a:ext cx="11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871760" y="314640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993800" y="314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080560" y="3146400"/>
              <a:ext cx="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142480" y="314640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é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90080" y="31464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327160" y="31464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398800" y="314640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80000" y="3314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82960" y="331488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14640" y="3314880"/>
              <a:ext cx="154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48560" y="3314880"/>
              <a:ext cx="14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u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83200" y="331488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79320" y="331488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51320" y="331488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089120" y="331488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78760" y="3314880"/>
              <a:ext cx="14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n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14120" y="3314880"/>
              <a:ext cx="194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06000" y="331488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88800" y="331488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41720" y="3314880"/>
              <a:ext cx="11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63760" y="3314880"/>
              <a:ext cx="69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832160" y="3314880"/>
              <a:ext cx="194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021160" y="331488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061480" y="3314880"/>
              <a:ext cx="9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159040" y="3314880"/>
              <a:ext cx="60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229240" y="3314880"/>
              <a:ext cx="43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267040" y="3314880"/>
              <a:ext cx="99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52720" y="3314880"/>
              <a:ext cx="102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448120" y="3314880"/>
              <a:ext cx="79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3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613920" y="350676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08240" y="3506760"/>
              <a:ext cx="13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83532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919920" y="3506760"/>
              <a:ext cx="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77520" y="350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65360" y="3506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r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55720" y="3506760"/>
              <a:ext cx="18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26720" y="3506760"/>
              <a:ext cx="12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x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434360" y="3506760"/>
              <a:ext cx="18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d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12560" y="350676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3800" y="3506760"/>
              <a:ext cx="18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803000" y="3506760"/>
              <a:ext cx="19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clé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92720" y="3506760"/>
              <a:ext cx="12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a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112240" y="3506760"/>
              <a:ext cx="148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613920" y="3675240"/>
              <a:ext cx="8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-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05000" y="3675240"/>
              <a:ext cx="18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66640" y="3675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y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020000" y="36752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094520" y="36752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178400" y="3675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44640" y="3675240"/>
              <a:ext cx="14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70640" y="3675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448040" y="3675240"/>
              <a:ext cx="15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98160" y="367524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39920" y="3675240"/>
              <a:ext cx="7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704720" y="367524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71680" y="3675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s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004240" y="36752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079480" y="3675240"/>
              <a:ext cx="9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61200" y="3675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 Black"/>
              </a:rPr>
              <a:t>Physique et chimie des matériaux</a:t>
            </a:r>
            <a:br>
              <a:rPr sz="3000"/>
            </a:b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aen, Lyon, IPN Orsay, CSNSM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9" name=""/>
          <p:cNvSpPr/>
          <p:nvPr/>
        </p:nvSpPr>
        <p:spPr>
          <a:xfrm>
            <a:off x="6934320" y="6324480"/>
            <a:ext cx="20574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38080" y="6400800"/>
            <a:ext cx="1828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6477120"/>
            <a:ext cx="1828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40640" y="6308640"/>
            <a:ext cx="63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élérateurs: GANIL, Tandem Orsay, VdG L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Faisceaux d ’agrégats</a:t>
            </a:r>
            <a:br>
              <a:rPr sz="3600"/>
            </a:b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(Lyon, Orsay)</a:t>
            </a:r>
            <a:endParaRPr b="0" lang="en-US" sz="3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00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jection d ’agrégats sur les so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ulvér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hauffage par les agrég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5164200" y="1295280"/>
            <a:ext cx="39798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2646000" y="228600"/>
            <a:ext cx="396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04920" y="1371600"/>
            <a:ext cx="8534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cc"/>
                </a:solidFill>
                <a:latin typeface="Arial"/>
              </a:rPr>
              <a:t>La pluridisciplinarité: une richesse pour l ’IN2P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pondre à la demande de la société en utilisant nos compé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verture vers d ’autres champs disciplinaires là où nos compétences le justifien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face avec SPM, SC,INSU, SD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velopper ces activités à travers des programmes interdisciplinaires - importance du lien avec les ré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Nécessité d ’une évaluation contin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39720" y="304920"/>
            <a:ext cx="7880040" cy="1312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Le programme sur l’Aval du Cyc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Electronucléaire (P.A.C.E.)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1360" y="211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1440" y="1752480"/>
            <a:ext cx="798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Les déchets nucléai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ar an, combustible usé sortant d’un réacteur RE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20.4 t d’uranium, 0.21 t de pluto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16 kg d’actinides mineurs (Np, Am, C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745 kg de produits de fission dont 10% de PFV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920" y="3809880"/>
            <a:ext cx="7613280" cy="228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oi du 30 décembre 1991 définit les grandes orient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e recherche sur la gestion des déchets radioactif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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éparation et transmutation des déch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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ockage en formation géologique profo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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océdés de Conditionnement et d’entrepo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Bilan en fin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85680" y="6480"/>
            <a:ext cx="8153640" cy="3080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DR GEDEON: Trans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esures de données nucléaires (métrolog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TOF (CERN), HI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utronique des milieux sous-cri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E-IV à Cadarache (MASUR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jet de démonstrateur: réacteur hybride (XA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élérateur (1GeV p) de haute intensité + réacteur sous-cri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PHI (CEA-IN2P3), MEGAPIE (PSI- Suiss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1920" y="3048120"/>
            <a:ext cx="7561440" cy="1678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DR PRACTIS: physico-chimie des actinides 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res radioélé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aitement, Sé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rtement aux interfaces, stockage, entrepo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4724280"/>
            <a:ext cx="7772400" cy="12520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MADE: NOuveaux Matériaux pour Déch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age et entreposage rever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veaux matériaux pour le condi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195800">
            <a:off x="-2684520" y="2695680"/>
            <a:ext cx="589284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GROUPEMENTS DE RECHER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05480" y="5943600"/>
            <a:ext cx="55299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PRO: Formations géologiques PROfondes (INS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11280" y="888840"/>
            <a:ext cx="612144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473040"/>
            <a:ext cx="8305920" cy="1556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verture récente vers des recherches innovantes sur l’énergie nucléaire du fut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3960" y="2590920"/>
            <a:ext cx="7375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 Cycle du tho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 Réacteurs à sels fond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jet PEREN à IS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ollaboration IN2P3 - SC - (CE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 Activité de simulation (IPNO-ISN</a:t>
            </a: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5040" y="5408640"/>
            <a:ext cx="7396920" cy="4597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gramme pluridisciplinaire ENERGIE du CN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152280"/>
            <a:ext cx="903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Mise à profit du savoir faire de l ’</a:t>
            </a:r>
            <a:r>
              <a:rPr b="1" i="1" lang="fr-FR" sz="2400" spc="-1" strike="noStrike">
                <a:solidFill>
                  <a:srgbClr val="0000ff"/>
                </a:solidFill>
                <a:latin typeface="Arial Black"/>
              </a:rPr>
              <a:t>IN2P3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 dans les techniques de dét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de particules, électronique, modélisation et utilisation des accélér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Arial Black"/>
              </a:rPr>
              <a:t>INTERFACE PHYSIQUE - MEDECINE</a:t>
            </a:r>
            <a:r>
              <a:rPr b="1" lang="fr-FR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848720" y="6238800"/>
            <a:ext cx="1295280" cy="619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4960" y="3962520"/>
            <a:ext cx="2923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- ACCELERAT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133720"/>
            <a:ext cx="655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radiologie X (Strasbourg, Marseil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édecine nucléaire: PET, SPECT, gamma-caméra compacte, scintimammograph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(Orsay, Grenoble, Clermont, Ly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monitoring et dosimétrie en radiothérapie (Ca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010280" y="2666880"/>
            <a:ext cx="2133720" cy="1712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299360" y="234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21360" y="274320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Gamma-caméra PO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5960" y="1752480"/>
            <a:ext cx="2852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- INSTR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1560" y="5257800"/>
            <a:ext cx="2392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- BIO-MATERIA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7280" y="4343400"/>
            <a:ext cx="579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Soutien technique pour protonthérapie (Ors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et hadronthérapie (projet Ly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1360" y="5715000"/>
            <a:ext cx="43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hirurgie orthopédique (Clerm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0"/>
            <a:ext cx="642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 Black"/>
              </a:rPr>
              <a:t>IN2P3</a:t>
            </a:r>
            <a:r>
              <a:rPr b="1" lang="fr-FR" sz="2800" spc="-1" strike="noStrike">
                <a:solidFill>
                  <a:srgbClr val="0000ff"/>
                </a:solidFill>
                <a:latin typeface="Arial Black"/>
              </a:rPr>
              <a:t>: INTERFACE PHYSIQUE-BI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843680" y="6238800"/>
            <a:ext cx="1295640" cy="619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843680" y="6242040"/>
            <a:ext cx="129564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843680" y="6242040"/>
            <a:ext cx="1295640" cy="6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152388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Autoradiographie et radiochromatographie (IPN, L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Imagerie petits animaux in-vivo, micro-PET (neurobiologie, oncologi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Orsay, Lyon, Clermo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Imagerie X pour cristallographie des protéines (Strasbourg, Marseil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Analyse à l ’échelle cellulaire et sub-cell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par micro-faisceau d ’ions (Bordeau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Séquençage de l ’ADN (IPN Ors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5867280" y="3200400"/>
            <a:ext cx="3276720" cy="2666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54400" y="3124080"/>
            <a:ext cx="18374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icro-sonde Borde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0440" y="1143000"/>
            <a:ext cx="27043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INSTRU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029200"/>
            <a:ext cx="579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Neurosciences (Orsay, Ly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Génomique, post-génomique (Ors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- Radiobiologie et dosimétrie (Bordeaux), 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Bioinformatique (Clermon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3080" y="4572000"/>
            <a:ext cx="543096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mic Sans MS"/>
              </a:rPr>
              <a:t>MODELISATION ET ANALYSE DE DONN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6705720" y="0"/>
            <a:ext cx="243828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Effets des Faibles doses</a:t>
            </a:r>
            <a:br>
              <a:rPr sz="3600"/>
            </a:b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Bordeaux, Lyon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Van de Graaf (Bordeau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rojet AIFI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fr-FR" sz="26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0,2 </a:t>
            </a:r>
            <a:r>
              <a:rPr b="0" lang="fr-FR" sz="26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Cellule par cellule et contrôlée ion par 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P - Agréga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biologiques (Ly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510552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 Black"/>
              </a:rPr>
              <a:t>Micrométéorites</a:t>
            </a:r>
            <a:br>
              <a:rPr sz="3600"/>
            </a:b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CSNSM Orsay</a:t>
            </a:r>
            <a:endParaRPr b="0" lang="en-US" sz="2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00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llecte de micrométéorites dans les glaces pola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alyse par microsonde ioni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cherche de molécules organiques et liaisons avec le viv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2674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2:49:38Z</dcterms:created>
  <dc:creator>IN2P3</dc:creator>
  <dc:description/>
  <dc:language>en-US</dc:language>
  <cp:lastModifiedBy>D.GUERREAU</cp:lastModifiedBy>
  <cp:lastPrinted>2002-05-05T10:37:45Z</cp:lastPrinted>
  <dcterms:modified xsi:type="dcterms:W3CDTF">2002-05-07T07:01:05Z</dcterms:modified>
  <cp:revision>29</cp:revision>
  <dc:subject/>
  <dc:title>MESURES DE BASSE RADIOACTIVITÉ Modane, Clermont, Grenoble, Nantes, Orsay, Strasbourg</dc:title>
</cp:coreProperties>
</file>