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12.wmf" ContentType="image/x-wmf"/>
  <Override PartName="/ppt/media/image11.wmf" ContentType="image/x-wmf"/>
  <Override PartName="/ppt/media/image17.jpeg" ContentType="image/jpeg"/>
  <Override PartName="/ppt/media/image19.wmf" ContentType="image/x-wmf"/>
  <Override PartName="/ppt/media/image9.jpeg" ContentType="image/jpeg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6.wmf" ContentType="image/x-wmf"/>
  <Override PartName="/ppt/media/image4.jpeg" ContentType="image/jpeg"/>
  <Override PartName="/ppt/media/image15.wmf" ContentType="image/x-wmf"/>
  <Override PartName="/ppt/media/image2.jpeg" ContentType="image/jpeg"/>
  <Override PartName="/ppt/media/image14.wmf" ContentType="image/x-wmf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4744-A40B-497D-86F4-1FCA0F2C4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18D0-C03F-402F-9203-D0FA5C7F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B673-7531-4D88-B119-4B6C9CF08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2562-D5AD-4A65-A71A-1A0C10E0A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F9BA-E2D1-4B61-870F-A7D34B6BD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8BE9-2229-487B-98D6-77902F21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9934-5386-4319-889C-4D5D045F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148D-AF89-4AC4-AB6E-6964B465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A2C2-8563-47A4-8A2F-19149800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B464-337A-47DB-A970-513EBB30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AA4A-15D3-4B09-B1F3-FCF3A99F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E661-8246-47FB-A3FC-86B70A4A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2BDA-A4DB-4152-AFBA-524C8A6B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6C5B-BF77-4211-A48F-0754D78F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AE80-DF58-4A2F-9C76-CF2B4C5B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4414-6A46-419F-85D3-16E750AAB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4639-27D0-4C64-B412-45F77E651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5E9B-8B85-4252-890A-AE02D04F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EA33-6029-4352-9C09-535EE9EC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90C1-EC92-4D5A-B2C7-8C9E0F67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2627-1ADE-4C65-86F9-B6EE7FA6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A3B4-E919-461E-BEEE-2F3B9417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F55A-B1A3-450E-AA0C-CFA1D616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C725-9F65-49D5-BE35-5AD1C42A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040" y="622944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Guy Wormser Conseil Scientifique, 6 Mai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98F1-8810-4D09-B433-0B072A33C4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721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E23C-D70C-461F-88BE-3B8077CF62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a physique des particules à l ’IN2P3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es deux thèmes majeurs de la disciplin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a chasse au Higgs et à la supersymétr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a violation de la symétrie 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TLAS et CMS entrent en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2001 année de (re)démarrage H1-D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a réflexion sur le futu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es outils informat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es problèmes financie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es expérienc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Nouveau calendri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Dépassement de coût fin 2001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environ 100 MCHF ATLAS et CM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Financement manqua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Dépassement d ’objets programmé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Oublis de certains obje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Intégration et mise en route (C&amp;I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PréMaintenance et préopér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Taux de chang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Pour y remédier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Réexamens très sérieux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Nouveaux collaborateu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Staging, descop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Fonds supplémentair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MoU M&amp;O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tuation actuel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oU M&amp;O prêts à être sign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Surcout ramené vers 60 MCHF/man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ntre 50% et 2/3 disponi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lan complet pour Octobre 200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8000"/>
                </a:solidFill>
                <a:latin typeface="Tahoma"/>
              </a:rPr>
              <a:t>Pas trop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d ’inquiétudes pour des détecteurs faisant de la bonne physique en Avril 2007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ros efforts de l ’IN2P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rutement de chercheu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es I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cations, CD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dget d ’accompagn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ons auprès du CE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enne technique au CE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a réflexion sur le futu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Réflexion sur les futurs accélérateurs menée dans des cadres multiples (ECFA/DESY, ECFA, ICFA, OCDE, Verneuil, HEPAP, Snowmass,...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rès fort consensus obtenu en 2001 dans les rapports de l ’ECFA , ACFA et HEPAP sur la prochaine priorité en physiques des particules: Un collisionneur E+e- de 500 Ge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15800" y="219240"/>
            <a:ext cx="679032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s de la journé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 16 juin l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sensus suivant s’est dégagé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8080" y="725400"/>
            <a:ext cx="853056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éaffirmation du soutient fort au projet LH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 LHC et les expériences du LHC doivent avoir la premiè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priorité a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’en assurer le succè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ependant, de nombreuses critiques envers le management des expérience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TLAS et CMS)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ont ét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oulevées (manque de transparence des prises de décision, mauvaise gestion des ressource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nanciè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umaines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7480" y="4022640"/>
            <a:ext cx="83660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sensus sur l’intérêt du programme de physique couvert par un collisionneu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+e- à haute luminosité pouvant explorer et étudier avec précision le doma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’énergie jusqu’au TeV. Avec cet outil et avec le LHC, nous posséder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s moyens efficaces et complémentaires d’étudier les questions fondamen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qui se posent à la physique des particu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ujourd’hu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a décision de construction d’un tel projet doit prise dès que possib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e projet doit faire l’objet d’une large collaboration internationale tant su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 plan financier que sur celui des ressources humai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0720" y="2495520"/>
            <a:ext cx="8138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s réponses aux questions que se pose la physique des particules nécessite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a construction de nouveaux accélérateu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a construction de tous ces outils ne pourra se faire dans une seule rég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ur répartition devra donc être planéta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4600" y="782640"/>
            <a:ext cx="276120" cy="349200"/>
          </a:xfrm>
          <a:custGeom>
            <a:avLst/>
            <a:gdLst>
              <a:gd name="textAreaLeft" fmla="*/ 113760 w 276120"/>
              <a:gd name="textAreaRight" fmla="*/ 162360 w 276120"/>
              <a:gd name="textAreaTop" fmla="*/ 144000 h 349200"/>
              <a:gd name="textAreaBottom" fmla="*/ 205200 h 349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6920" y="2532240"/>
            <a:ext cx="276120" cy="349200"/>
          </a:xfrm>
          <a:custGeom>
            <a:avLst/>
            <a:gdLst>
              <a:gd name="textAreaLeft" fmla="*/ 113760 w 276120"/>
              <a:gd name="textAreaRight" fmla="*/ 162360 w 276120"/>
              <a:gd name="textAreaTop" fmla="*/ 144000 h 349200"/>
              <a:gd name="textAreaBottom" fmla="*/ 205200 h 349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920" y="4056120"/>
            <a:ext cx="276120" cy="349200"/>
          </a:xfrm>
          <a:custGeom>
            <a:avLst/>
            <a:gdLst>
              <a:gd name="textAreaLeft" fmla="*/ 113760 w 276120"/>
              <a:gd name="textAreaRight" fmla="*/ 162360 w 276120"/>
              <a:gd name="textAreaTop" fmla="*/ 144000 h 349200"/>
              <a:gd name="textAreaBottom" fmla="*/ 205200 h 349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74120" y="203040"/>
            <a:ext cx="147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. Aleks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 juin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79400" y="565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5520" y="3218040"/>
            <a:ext cx="89517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 est vraisemblable qu'après plusieurs années de fonctionnement du LHC 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’un CL, le besoin d'accéder à des énergies plus hautes se manifeste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in d'être préparer à cette éventualité, une exploration des techniques permetta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tte montée en énergie est nécessai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ensus pour recommander un programme vigoureux de R&amp;D coordonnée a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veau mondial par de grands laboratoires sur les collisionneurs lepton-lepton 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on-prot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ensus pour dire que le CERN représente un élément clef et doit jouer un rô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teur dans ce domaine. Il est indispensable de garantir un budget suffisant dédi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cette R&amp;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5560" y="506520"/>
            <a:ext cx="87105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 domaine de physique très intéressant et complémentaire à celui du LHC 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’un CL est l’étude du mélange des saveurs et de la violation de CP dans le secteu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ptonique. Cette étude pourrait être mené grâce a une usine de neutrino (p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mple à partir d’une source de proton intense (SPL) et/ou d’un anneau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kage de muo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ensus pour soutenir ce thème de physique en encourageant les étude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isabilité et la R&amp;D de tels accélérateurs ainsi que les détecteurs associes d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’attente des futurs résultats des programmes exista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3259080"/>
            <a:ext cx="276120" cy="349200"/>
          </a:xfrm>
          <a:custGeom>
            <a:avLst/>
            <a:gdLst>
              <a:gd name="textAreaLeft" fmla="*/ 113760 w 276120"/>
              <a:gd name="textAreaRight" fmla="*/ 162360 w 276120"/>
              <a:gd name="textAreaTop" fmla="*/ 144000 h 349200"/>
              <a:gd name="textAreaBottom" fmla="*/ 205200 h 349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520" y="538200"/>
            <a:ext cx="276120" cy="349200"/>
          </a:xfrm>
          <a:custGeom>
            <a:avLst/>
            <a:gdLst>
              <a:gd name="textAreaLeft" fmla="*/ 113760 w 276120"/>
              <a:gd name="textAreaRight" fmla="*/ 162360 w 276120"/>
              <a:gd name="textAreaTop" fmla="*/ 144000 h 349200"/>
              <a:gd name="textAreaBottom" fmla="*/ 205200 h 349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traits choi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re is world-wide agreement that the electron-positron linear collider with a center-of-mass energy of at least 400 GeV is the next facility on the world Road Map.  The ACFA study confirms that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“the e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LC project is the next project for research in high-energy physics”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commends that “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he e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LC must start operation when the high-luminosity run of the LHC start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”.  The ECFA study recommends “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he realisation … of a world-wide collaboration to construct a high-luminosity e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linear collider … as the next accelerator project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” and that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“an overlap time of operation of the LHC and that of the linear collider would be extremely fruitful”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  The HEPAP study recommends “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he highest priority of the US program be a high-energy, high-luminosity, electron-positron linear collid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” and clearly shows in their road map a considerable period of concurrent running of the LHC and the electron-positron linear collider (LC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es différentes op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 programme d ’amélioration du LH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lus d ’énerg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lus de luminosit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 collisionneur e+e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350 Ge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500-800 Ge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3 Te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 collisionneur à mu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 super LHC de 100 Te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a géopolitique et le calendrier (I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HC+ opérationnel vers 20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TESLA (présenté le 23-24 Mars 2001 à Hambour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Examen par le Conseil Allemand de la science rapport en Nov 200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décision du gouvernement allemand en 20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JLC (accélérateur chaud X/C band 350 Ge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écision du gouvernement japonais en 2003/2004 pour autoriser lancement d ’un ~A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NLC (accélérateur chaud de 500 Ge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proposition au gouvernement américain en 200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tation d ’essai CLIC 75 GeV en 200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Groupe ICFA/Greg Loew 20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a géopolitique et le calendrier (II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‘ 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Roadmap ’  et rapport final OCDE Juin  200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reprise des documents ECFA, ACFA, HEPA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Problèmes organisationne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Maintenir contact au niveau des gouverne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Mise en place d ’un International Steering Committee au niveau de l ’ICFA avec trois steering committes régionaux : Japon, USA, Europe (Juillet 200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Mise en place de l ’European steering committee au niveau de l ’ECFA: 6 memb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Chairman ECFA, chairman groupes de physique, CERN, DESY, 2 représentants des labos impliqués dans la R&amp;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Missions de ces steering groups: Scientifique, technologique, organisationnel, vulgaris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 Black"/>
              </a:rPr>
              <a:t>La chasse au Higg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Signal de Higgs à 115 GeV dans les expériences LEP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e potentiel de D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e potentiel du LH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’expérience g-2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d0_potential" descr=""/>
          <p:cNvPicPr/>
          <p:nvPr/>
        </p:nvPicPr>
        <p:blipFill>
          <a:blip r:embed="rId1"/>
          <a:stretch/>
        </p:blipFill>
        <p:spPr>
          <a:xfrm>
            <a:off x="4191120" y="3809880"/>
            <a:ext cx="3962160" cy="2390760"/>
          </a:xfrm>
          <a:prstGeom prst="rect">
            <a:avLst/>
          </a:prstGeom>
          <a:ln w="0">
            <a:noFill/>
          </a:ln>
        </p:spPr>
      </p:pic>
      <p:pic>
        <p:nvPicPr>
          <p:cNvPr id="88" name="lhc_higgs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2438640" cy="2384640"/>
          </a:xfrm>
          <a:prstGeom prst="rect">
            <a:avLst/>
          </a:prstGeom>
          <a:ln w="0">
            <a:noFill/>
          </a:ln>
        </p:spPr>
      </p:pic>
      <p:pic>
        <p:nvPicPr>
          <p:cNvPr id="89" name="lepmass" descr=""/>
          <p:cNvPicPr/>
          <p:nvPr/>
        </p:nvPicPr>
        <p:blipFill>
          <a:blip r:embed="rId3"/>
          <a:stretch/>
        </p:blipFill>
        <p:spPr>
          <a:xfrm>
            <a:off x="4191120" y="2286000"/>
            <a:ext cx="41338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es efforts de R&amp;D sur les accélérateurs linéair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ollaboration avec DES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esponsabilité transférée de DESY au  LAL sur les coupleu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définir une technique et son  industrialis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ollaboration avec le CE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anon et prébuncheurs de CTF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ctifs de l’Institu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Favoriser l ’éclosion d ’un projet de collisionneur de ‘ basse énergie ’ respectueux de l ’aveni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Garder ouverte une participation technique importante à la mach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révoir une participation importante d ’un groupe de physiciens de l ’IN2P3 dans une collaboration international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&amp;D détecteur à l ’IN2P3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Nouvelle activité validée par le Conseil Scientifique en Nov 200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Détecteurs Vertex CMOS (IR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PC (LAL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alorimètre W-Si (LLR, L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« Outer Detector » (LPNH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Bonne collaboration avec le DAPN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es outils informatiq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 calcul au LHC nécessitera de relever des défis formid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Grille de calcul indispensable: projet DATAGRID , LHC Computing Grid (LC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ogiciels nécessaire pour mutualiser les ressources disponibles sur le rése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e projet DATAGRI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Financé par la Commission de Bruxelles à hauteur de 10 Meuros depuis le 1 janvier 2001 pour 3 ans. Première revue annuelle très positive Mars 2002. Journée ouverte 7 Mars 2002 au Ministère avec la présence du minist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6 partenaires principaux (CERN, CNRS, INFN, PPARC, NIKHEF, ES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partenaire associé DAPN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3 sciences couvertes (HEP, Observation de la Terre, Biologi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esponsabilité CNRS </a:t>
            </a:r>
            <a:r>
              <a:rPr b="0" lang="fr-FR" sz="2000" spc="-1" strike="noStrike">
                <a:solidFill>
                  <a:srgbClr val="990000"/>
                </a:solidFill>
                <a:latin typeface="Tahoma"/>
              </a:rPr>
              <a:t>Plateforme test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réseaux, biolog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Forte participation IN2P3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CPPM (F. Etienne), Grenoble, Nantes, Clermont-Ferrand, X, L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Centre de Calcul de Ly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CDD, postes chercheurs interdisciplinaires, budget spécifiq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émo à court terme : BABAR, VIRG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 nouvelles solutions sont nécessaires !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8" name="lhc_needs_grid" descr=""/>
          <p:cNvPicPr/>
          <p:nvPr/>
        </p:nvPicPr>
        <p:blipFill>
          <a:blip r:embed="rId1"/>
          <a:stretch/>
        </p:blipFill>
        <p:spPr>
          <a:xfrm>
            <a:off x="457200" y="1898640"/>
            <a:ext cx="817884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 Black"/>
              </a:rPr>
              <a:t>From Web to Gri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web" descr=""/>
          <p:cNvPicPr/>
          <p:nvPr/>
        </p:nvPicPr>
        <p:blipFill>
          <a:blip r:embed="rId1"/>
          <a:stretch/>
        </p:blipFill>
        <p:spPr>
          <a:xfrm>
            <a:off x="0" y="1752480"/>
            <a:ext cx="4648320" cy="3033720"/>
          </a:xfrm>
          <a:prstGeom prst="rect">
            <a:avLst/>
          </a:prstGeom>
          <a:ln w="0">
            <a:noFill/>
          </a:ln>
        </p:spPr>
      </p:pic>
      <p:pic>
        <p:nvPicPr>
          <p:cNvPr id="151" name="grille" descr=""/>
          <p:cNvPicPr/>
          <p:nvPr/>
        </p:nvPicPr>
        <p:blipFill>
          <a:blip r:embed="rId2"/>
          <a:stretch/>
        </p:blipFill>
        <p:spPr>
          <a:xfrm>
            <a:off x="4876920" y="3581280"/>
            <a:ext cx="3849480" cy="274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 flipH="1" rot="10849800">
            <a:off x="3047040" y="5028840"/>
            <a:ext cx="814320" cy="866880"/>
          </a:xfrm>
          <a:custGeom>
            <a:avLst/>
            <a:gdLst>
              <a:gd name="textAreaLeft" fmla="*/ 360 w 814320"/>
              <a:gd name="textAreaRight" fmla="*/ 815040 w 8143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 Black"/>
              </a:rPr>
              <a:t>The HEP DataGri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4" name="grid" descr=""/>
          <p:cNvPicPr/>
          <p:nvPr/>
        </p:nvPicPr>
        <p:blipFill>
          <a:blip r:embed="rId1"/>
          <a:stretch/>
        </p:blipFill>
        <p:spPr>
          <a:xfrm>
            <a:off x="2346480" y="1886040"/>
            <a:ext cx="440028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635280" y="2087640"/>
            <a:ext cx="1171800" cy="11858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62355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Job Submission Exampl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981000" y="1122480"/>
            <a:ext cx="1265400" cy="1315800"/>
            <a:chOff x="981000" y="1122480"/>
            <a:chExt cx="1265400" cy="1315800"/>
          </a:xfrm>
        </p:grpSpPr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981000" y="1122480"/>
              <a:ext cx="1265400" cy="13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450800" y="1274400"/>
              <a:ext cx="61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J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1009800" y="3429000"/>
            <a:ext cx="1218960" cy="1168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5320" y="4610160"/>
            <a:ext cx="168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gging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-kee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21480" y="1487880"/>
            <a:ext cx="1116360" cy="1940400"/>
            <a:chOff x="321480" y="1487880"/>
            <a:chExt cx="1116360" cy="1940400"/>
          </a:xfrm>
        </p:grpSpPr>
        <p:cxnSp>
          <p:nvCxnSpPr>
            <p:cNvPr id="163" name=""/>
            <p:cNvCxnSpPr/>
            <p:nvPr/>
          </p:nvCxnSpPr>
          <p:spPr>
            <a:xfrm flipV="1" rot="10800000">
              <a:off x="663840" y="1487880"/>
              <a:ext cx="774000" cy="1940760"/>
            </a:xfrm>
            <a:prstGeom prst="bentConnector3">
              <a:avLst>
                <a:gd name="adj1" fmla="val 144299"/>
              </a:avLst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</p:cxnSp>
        <p:sp>
          <p:nvSpPr>
            <p:cNvPr id="164" name=""/>
            <p:cNvSpPr/>
            <p:nvPr/>
          </p:nvSpPr>
          <p:spPr>
            <a:xfrm>
              <a:off x="331560" y="2637000"/>
              <a:ext cx="1101240" cy="5806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Job Subm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v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5935680" y="1447920"/>
            <a:ext cx="1165320" cy="1163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585960" y="3119400"/>
            <a:ext cx="118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660320" y="2522520"/>
            <a:ext cx="2030040" cy="906480"/>
            <a:chOff x="1660320" y="2522520"/>
            <a:chExt cx="2030040" cy="906480"/>
          </a:xfrm>
        </p:grpSpPr>
        <p:sp>
          <p:nvSpPr>
            <p:cNvPr id="168" name=""/>
            <p:cNvSpPr/>
            <p:nvPr/>
          </p:nvSpPr>
          <p:spPr>
            <a:xfrm>
              <a:off x="2072520" y="2927520"/>
              <a:ext cx="1617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Output Sandbo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659960" y="2522520"/>
              <a:ext cx="1912680" cy="906480"/>
            </a:xfrm>
            <a:custGeom>
              <a:avLst/>
              <a:gdLst>
                <a:gd name="textAreaLeft" fmla="*/ 637200 w 1912680"/>
                <a:gd name="textAreaRight" fmla="*/ 1638000 w 1912680"/>
                <a:gd name="textAreaTop" fmla="*/ 709200 h 906480"/>
                <a:gd name="textAreaBottom" fmla="*/ 776520 h 90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9993"/>
                  </a:moveTo>
                  <a:lnTo>
                    <a:pt x="16893" y="19993"/>
                  </a:lnTo>
                  <a:lnTo>
                    <a:pt x="16893" y="7200"/>
                  </a:lnTo>
                  <a:lnTo>
                    <a:pt x="13793" y="7200"/>
                  </a:lnTo>
                  <a:lnTo>
                    <a:pt x="17697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237040" y="1125360"/>
            <a:ext cx="2477160" cy="1388880"/>
            <a:chOff x="2237040" y="1125360"/>
            <a:chExt cx="2477160" cy="1388880"/>
          </a:xfrm>
        </p:grpSpPr>
        <p:sp>
          <p:nvSpPr>
            <p:cNvPr id="171" name=""/>
            <p:cNvSpPr/>
            <p:nvPr/>
          </p:nvSpPr>
          <p:spPr>
            <a:xfrm flipH="1" rot="10800000">
              <a:off x="2270520" y="1455480"/>
              <a:ext cx="2443320" cy="1058760"/>
            </a:xfrm>
            <a:custGeom>
              <a:avLst/>
              <a:gdLst>
                <a:gd name="textAreaLeft" fmla="*/ 814320 w 2443320"/>
                <a:gd name="textAreaRight" fmla="*/ 2092680 w 2443320"/>
                <a:gd name="textAreaTop" fmla="*/ 833400 h 1058760"/>
                <a:gd name="textAreaBottom" fmla="*/ 906840 h 105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0103"/>
                  </a:moveTo>
                  <a:lnTo>
                    <a:pt x="17003" y="20103"/>
                  </a:lnTo>
                  <a:lnTo>
                    <a:pt x="17003" y="7200"/>
                  </a:lnTo>
                  <a:lnTo>
                    <a:pt x="13903" y="7200"/>
                  </a:lnTo>
                  <a:lnTo>
                    <a:pt x="17752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5e5ff"/>
            </a:solidFill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37040" y="1125360"/>
              <a:ext cx="147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nput Sandbo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4394160" y="3809880"/>
            <a:ext cx="1027080" cy="1143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987720" y="4848120"/>
            <a:ext cx="188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ob Sub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BS00369_" descr=""/>
          <p:cNvPicPr/>
          <p:nvPr/>
        </p:nvPicPr>
        <p:blipFill>
          <a:blip r:embed="rId6"/>
          <a:stretch/>
        </p:blipFill>
        <p:spPr>
          <a:xfrm>
            <a:off x="5557680" y="5029200"/>
            <a:ext cx="1549440" cy="121932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7458120" y="4876920"/>
            <a:ext cx="352440" cy="457200"/>
            <a:chOff x="7458120" y="4876920"/>
            <a:chExt cx="352440" cy="457200"/>
          </a:xfrm>
        </p:grpSpPr>
        <p:sp>
          <p:nvSpPr>
            <p:cNvPr id="177" name=""/>
            <p:cNvSpPr/>
            <p:nvPr/>
          </p:nvSpPr>
          <p:spPr>
            <a:xfrm>
              <a:off x="7458120" y="5181840"/>
              <a:ext cx="352440" cy="152280"/>
            </a:xfrm>
            <a:prstGeom prst="ellipse">
              <a:avLst/>
            </a:prstGeom>
            <a:solidFill>
              <a:srgbClr val="ffcc00"/>
            </a:solidFill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458120" y="4953240"/>
              <a:ext cx="352440" cy="30492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58120" y="4876920"/>
              <a:ext cx="352440" cy="152640"/>
            </a:xfrm>
            <a:prstGeom prst="ellipse">
              <a:avLst/>
            </a:prstGeom>
            <a:solidFill>
              <a:srgbClr val="ffcc00"/>
            </a:solidFill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58120" y="4953240"/>
              <a:ext cx="0" cy="30492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810560" y="4953240"/>
              <a:ext cx="0" cy="30492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599240" y="5029200"/>
            <a:ext cx="352440" cy="457200"/>
            <a:chOff x="7599240" y="5029200"/>
            <a:chExt cx="352440" cy="457200"/>
          </a:xfrm>
        </p:grpSpPr>
        <p:sp>
          <p:nvSpPr>
            <p:cNvPr id="183" name=""/>
            <p:cNvSpPr/>
            <p:nvPr/>
          </p:nvSpPr>
          <p:spPr>
            <a:xfrm>
              <a:off x="7599240" y="5334120"/>
              <a:ext cx="352440" cy="152280"/>
            </a:xfrm>
            <a:prstGeom prst="ellipse">
              <a:avLst/>
            </a:prstGeom>
            <a:solidFill>
              <a:srgbClr val="ffcc00"/>
            </a:solidFill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599240" y="5105520"/>
              <a:ext cx="352440" cy="30492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99240" y="5029200"/>
              <a:ext cx="352440" cy="152640"/>
            </a:xfrm>
            <a:prstGeom prst="ellipse">
              <a:avLst/>
            </a:prstGeom>
            <a:solidFill>
              <a:srgbClr val="ffcc00"/>
            </a:solidFill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99240" y="5105520"/>
              <a:ext cx="0" cy="30492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51680" y="5105520"/>
              <a:ext cx="0" cy="30492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740720" y="5181480"/>
            <a:ext cx="350640" cy="457200"/>
            <a:chOff x="7740720" y="5181480"/>
            <a:chExt cx="350640" cy="457200"/>
          </a:xfrm>
        </p:grpSpPr>
        <p:sp>
          <p:nvSpPr>
            <p:cNvPr id="189" name=""/>
            <p:cNvSpPr/>
            <p:nvPr/>
          </p:nvSpPr>
          <p:spPr>
            <a:xfrm>
              <a:off x="7740720" y="5486400"/>
              <a:ext cx="350640" cy="152280"/>
            </a:xfrm>
            <a:prstGeom prst="ellipse">
              <a:avLst/>
            </a:prstGeom>
            <a:solidFill>
              <a:srgbClr val="ffcc00"/>
            </a:solidFill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740720" y="5257800"/>
              <a:ext cx="350640" cy="30492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740720" y="5181480"/>
              <a:ext cx="350640" cy="152640"/>
            </a:xfrm>
            <a:prstGeom prst="ellipse">
              <a:avLst/>
            </a:prstGeom>
            <a:solidFill>
              <a:srgbClr val="ffcc00"/>
            </a:solidFill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40720" y="5257800"/>
              <a:ext cx="0" cy="30492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091360" y="5257800"/>
              <a:ext cx="0" cy="30492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7753320" y="4238640"/>
            <a:ext cx="108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77680" y="5878440"/>
            <a:ext cx="118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416560" y="4343040"/>
            <a:ext cx="915480" cy="1219680"/>
            <a:chOff x="5416560" y="4343040"/>
            <a:chExt cx="915480" cy="1219680"/>
          </a:xfrm>
        </p:grpSpPr>
        <p:sp>
          <p:nvSpPr>
            <p:cNvPr id="197" name=""/>
            <p:cNvSpPr/>
            <p:nvPr/>
          </p:nvSpPr>
          <p:spPr>
            <a:xfrm>
              <a:off x="5769720" y="4343400"/>
              <a:ext cx="562320" cy="685800"/>
            </a:xfrm>
            <a:prstGeom prst="flowChartPunchedTape">
              <a:avLst/>
            </a:prstGeom>
            <a:solidFill>
              <a:srgbClr val="e5e5ff"/>
            </a:solidFill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Brokerinf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8" name=""/>
            <p:cNvCxnSpPr/>
            <p:nvPr/>
          </p:nvCxnSpPr>
          <p:spPr>
            <a:xfrm>
              <a:off x="5416560" y="4343040"/>
              <a:ext cx="285120" cy="1220040"/>
            </a:xfrm>
            <a:prstGeom prst="bentConnector2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</p:cxnSp>
      </p:grpSp>
      <p:grpSp>
        <p:nvGrpSpPr>
          <p:cNvPr id="199" name=""/>
          <p:cNvGrpSpPr/>
          <p:nvPr/>
        </p:nvGrpSpPr>
        <p:grpSpPr>
          <a:xfrm>
            <a:off x="3728520" y="3730680"/>
            <a:ext cx="1818360" cy="2595600"/>
            <a:chOff x="3728520" y="3730680"/>
            <a:chExt cx="1818360" cy="2595600"/>
          </a:xfrm>
        </p:grpSpPr>
        <p:sp>
          <p:nvSpPr>
            <p:cNvPr id="200" name=""/>
            <p:cNvSpPr/>
            <p:nvPr/>
          </p:nvSpPr>
          <p:spPr>
            <a:xfrm flipH="1">
              <a:off x="3728160" y="3730680"/>
              <a:ext cx="1652040" cy="2595600"/>
            </a:xfrm>
            <a:custGeom>
              <a:avLst/>
              <a:gdLst>
                <a:gd name="textAreaLeft" fmla="*/ 477000 w 1652040"/>
                <a:gd name="textAreaRight" fmla="*/ 1402560 w 1652040"/>
                <a:gd name="textAreaTop" fmla="*/ 2048400 h 2595600"/>
                <a:gd name="textAreaBottom" fmla="*/ 2203560 h 259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0307"/>
                  </a:moveTo>
                  <a:lnTo>
                    <a:pt x="17044" y="20307"/>
                  </a:lnTo>
                  <a:lnTo>
                    <a:pt x="17044" y="6239"/>
                  </a:lnTo>
                  <a:lnTo>
                    <a:pt x="13781" y="6239"/>
                  </a:lnTo>
                  <a:lnTo>
                    <a:pt x="17691" y="0"/>
                  </a:lnTo>
                  <a:lnTo>
                    <a:pt x="21600" y="6239"/>
                  </a:lnTo>
                  <a:lnTo>
                    <a:pt x="18337" y="6239"/>
                  </a:lnTo>
                  <a:lnTo>
                    <a:pt x="1833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929040" y="5781600"/>
              <a:ext cx="1617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Output Sandbo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362920" y="2743200"/>
            <a:ext cx="1986840" cy="2124360"/>
            <a:chOff x="5362920" y="2743200"/>
            <a:chExt cx="1986840" cy="2124360"/>
          </a:xfrm>
        </p:grpSpPr>
        <p:sp>
          <p:nvSpPr>
            <p:cNvPr id="203" name=""/>
            <p:cNvSpPr/>
            <p:nvPr/>
          </p:nvSpPr>
          <p:spPr>
            <a:xfrm flipH="1" rot="10872600">
              <a:off x="5451120" y="3173040"/>
              <a:ext cx="1881000" cy="1674720"/>
            </a:xfrm>
            <a:custGeom>
              <a:avLst/>
              <a:gdLst>
                <a:gd name="textAreaLeft" fmla="*/ 374040 w 1881000"/>
                <a:gd name="textAreaRight" fmla="*/ 1516320 w 1881000"/>
                <a:gd name="textAreaTop" fmla="*/ 1203840 h 1674720"/>
                <a:gd name="textAreaBottom" fmla="*/ 1350000 h 167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9717"/>
                  </a:moveTo>
                  <a:lnTo>
                    <a:pt x="15528" y="19717"/>
                  </a:lnTo>
                  <a:lnTo>
                    <a:pt x="15528" y="4296"/>
                  </a:lnTo>
                  <a:lnTo>
                    <a:pt x="11339" y="4296"/>
                  </a:lnTo>
                  <a:lnTo>
                    <a:pt x="16470" y="0"/>
                  </a:lnTo>
                  <a:lnTo>
                    <a:pt x="21600" y="4296"/>
                  </a:lnTo>
                  <a:lnTo>
                    <a:pt x="17411" y="4296"/>
                  </a:lnTo>
                  <a:lnTo>
                    <a:pt x="1741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5e5ff"/>
            </a:solidFill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62920" y="2743200"/>
              <a:ext cx="147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nput Sandbo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 flipV="1">
            <a:off x="4995720" y="2209680"/>
            <a:ext cx="1054080" cy="914400"/>
          </a:xfrm>
          <a:prstGeom prst="line">
            <a:avLst/>
          </a:prstGeom>
          <a:ln w="3816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577560" y="896760"/>
            <a:ext cx="157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form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179" idx="0"/>
            <a:endCxn id="165" idx="3"/>
          </p:cNvCxnSpPr>
          <p:nvPr/>
        </p:nvCxnSpPr>
        <p:spPr>
          <a:xfrm flipV="1" rot="16200000">
            <a:off x="5950080" y="3179880"/>
            <a:ext cx="2834280" cy="533880"/>
          </a:xfrm>
          <a:prstGeom prst="bentConnector2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</p:cxnSp>
      <p:grpSp>
        <p:nvGrpSpPr>
          <p:cNvPr id="208" name=""/>
          <p:cNvGrpSpPr/>
          <p:nvPr/>
        </p:nvGrpSpPr>
        <p:grpSpPr>
          <a:xfrm>
            <a:off x="1617120" y="4597200"/>
            <a:ext cx="4716720" cy="1879920"/>
            <a:chOff x="1617120" y="4597200"/>
            <a:chExt cx="4716720" cy="1879920"/>
          </a:xfrm>
        </p:grpSpPr>
        <p:cxnSp>
          <p:nvCxnSpPr>
            <p:cNvPr id="209" name=""/>
            <p:cNvCxnSpPr>
              <a:stCxn id="175" idx="2"/>
              <a:endCxn id="160" idx="2"/>
            </p:cNvCxnSpPr>
            <p:nvPr/>
          </p:nvCxnSpPr>
          <p:spPr>
            <a:xfrm flipV="1" rot="16200000">
              <a:off x="3150000" y="3064320"/>
              <a:ext cx="1651680" cy="4717080"/>
            </a:xfrm>
            <a:prstGeom prst="bentConnector3">
              <a:avLst>
                <a:gd name="adj1" fmla="val -13843"/>
              </a:avLst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</p:cxnSp>
        <p:sp>
          <p:nvSpPr>
            <p:cNvPr id="210" name=""/>
            <p:cNvSpPr/>
            <p:nvPr/>
          </p:nvSpPr>
          <p:spPr>
            <a:xfrm>
              <a:off x="2356200" y="6019920"/>
              <a:ext cx="101124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Job Stat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4933800" y="914400"/>
            <a:ext cx="914400" cy="1143000"/>
          </a:xfrm>
          <a:prstGeom prst="flowChartMultidocument">
            <a:avLst/>
          </a:prstGeom>
          <a:solidFill>
            <a:srgbClr val="5e574e"/>
          </a:solidFill>
          <a:ln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35720" y="657360"/>
            <a:ext cx="128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talo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854600" y="1980720"/>
            <a:ext cx="633240" cy="685800"/>
          </a:xfrm>
          <a:prstGeom prst="line">
            <a:avLst/>
          </a:prstGeom>
          <a:ln w="3816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6824160" y="1676160"/>
            <a:ext cx="1970640" cy="4191120"/>
            <a:chOff x="6824160" y="1676160"/>
            <a:chExt cx="1970640" cy="4191120"/>
          </a:xfrm>
        </p:grpSpPr>
        <p:sp>
          <p:nvSpPr>
            <p:cNvPr id="215" name=""/>
            <p:cNvSpPr/>
            <p:nvPr/>
          </p:nvSpPr>
          <p:spPr>
            <a:xfrm>
              <a:off x="7036560" y="5867280"/>
              <a:ext cx="175788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8794800" y="1676160"/>
              <a:ext cx="0" cy="419076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6824160" y="1676520"/>
              <a:ext cx="197028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1547640" y="2431800"/>
            <a:ext cx="0" cy="99684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428560" y="3629160"/>
            <a:ext cx="1204920" cy="54756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2322000" y="4419720"/>
            <a:ext cx="2000520" cy="16488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572000" y="2995200"/>
            <a:ext cx="590400" cy="776520"/>
          </a:xfrm>
          <a:prstGeom prst="line">
            <a:avLst/>
          </a:prstGeom>
          <a:ln w="3816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 Black"/>
              </a:rPr>
              <a:t>DATAGRID Test Be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3" name="datagrid_testbed" descr=""/>
          <p:cNvPicPr/>
          <p:nvPr/>
        </p:nvPicPr>
        <p:blipFill>
          <a:blip r:embed="rId1"/>
          <a:stretch/>
        </p:blipFill>
        <p:spPr>
          <a:xfrm>
            <a:off x="884160" y="1886040"/>
            <a:ext cx="73231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a violation de C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Résultat final de NA48 sur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 ’/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64480" indent="-217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L ’asymétrie matière anti-matière n ’est pas une curiosité due à la structure interne des kaons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remiers résultats de BABAR (et BELL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64480" indent="-217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in(2b)=0.75+-0.09+-0.04 basé sur 62 M Y(4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735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(Moyenne mondiale 0.78+-0.0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4480" indent="-217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in(2a)=-0.02+-0.3; C2a=0+-0.3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64480" indent="-217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Belle : -1.2+-0.4   C2a -0.94+-0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64480" indent="-217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remiers résultats sur modes rares très importants: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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, K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émarrage de LHCb (Signature du MoU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64480" indent="-217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lermont-Ferrand,  LAL, Marseille, </a:t>
            </a:r>
            <a:r>
              <a:rPr b="0" lang="fr-FR" sz="2800" spc="-1" strike="noStrike">
                <a:solidFill>
                  <a:srgbClr val="808000"/>
                </a:solidFill>
                <a:latin typeface="Tahoma"/>
              </a:rPr>
              <a:t>LAP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09480" y="1066680"/>
            <a:ext cx="779616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91976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LHC Computing Mod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Cloud"/>
          <p:cNvSpPr/>
          <p:nvPr/>
        </p:nvSpPr>
        <p:spPr>
          <a:xfrm>
            <a:off x="2540160" y="1508040"/>
            <a:ext cx="4232160" cy="3943440"/>
          </a:xfrm>
          <a:prstGeom prst="pie">
            <a:avLst/>
          </a:prstGeom>
          <a:solidFill>
            <a:srgbClr val="e3fbf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16200000">
            <a:off x="8286840" y="5627880"/>
            <a:ext cx="152172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Comic Sans MS"/>
              </a:rPr>
              <a:t>les.robertson@cern.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133880" y="2789280"/>
            <a:ext cx="1135080" cy="1243080"/>
            <a:chOff x="4133880" y="2789280"/>
            <a:chExt cx="1135080" cy="1243080"/>
          </a:xfrm>
        </p:grpSpPr>
        <p:sp>
          <p:nvSpPr>
            <p:cNvPr id="229" name=""/>
            <p:cNvSpPr/>
            <p:nvPr/>
          </p:nvSpPr>
          <p:spPr>
            <a:xfrm>
              <a:off x="4133880" y="2789280"/>
              <a:ext cx="1135080" cy="1243080"/>
            </a:xfrm>
            <a:prstGeom prst="octagon">
              <a:avLst>
                <a:gd name="adj" fmla="val 2928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4336200" y="3063960"/>
              <a:ext cx="672120" cy="693720"/>
              <a:chOff x="4336200" y="3063960"/>
              <a:chExt cx="672120" cy="69372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4378680" y="3063960"/>
                <a:ext cx="629640" cy="693720"/>
                <a:chOff x="4378680" y="3063960"/>
                <a:chExt cx="629640" cy="6937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4617360" y="3063960"/>
                  <a:ext cx="235800" cy="276120"/>
                </a:xfrm>
                <a:custGeom>
                  <a:avLst/>
                  <a:gdLst/>
                  <a:ahLst/>
                  <a:rect l="l" t="t" r="r" b="b"/>
                  <a:pathLst>
                    <a:path w="1619" h="1493">
                      <a:moveTo>
                        <a:pt x="1619" y="1493"/>
                      </a:moveTo>
                      <a:lnTo>
                        <a:pt x="1619" y="1493"/>
                      </a:lnTo>
                      <a:lnTo>
                        <a:pt x="1615" y="1416"/>
                      </a:lnTo>
                      <a:lnTo>
                        <a:pt x="1610" y="1342"/>
                      </a:lnTo>
                      <a:lnTo>
                        <a:pt x="1599" y="1267"/>
                      </a:lnTo>
                      <a:lnTo>
                        <a:pt x="1585" y="1194"/>
                      </a:lnTo>
                      <a:lnTo>
                        <a:pt x="1568" y="1120"/>
                      </a:lnTo>
                      <a:lnTo>
                        <a:pt x="1545" y="1049"/>
                      </a:lnTo>
                      <a:lnTo>
                        <a:pt x="1519" y="981"/>
                      </a:lnTo>
                      <a:lnTo>
                        <a:pt x="1491" y="914"/>
                      </a:lnTo>
                      <a:lnTo>
                        <a:pt x="1458" y="847"/>
                      </a:lnTo>
                      <a:lnTo>
                        <a:pt x="1423" y="783"/>
                      </a:lnTo>
                      <a:lnTo>
                        <a:pt x="1383" y="719"/>
                      </a:lnTo>
                      <a:lnTo>
                        <a:pt x="1341" y="660"/>
                      </a:lnTo>
                      <a:lnTo>
                        <a:pt x="1295" y="601"/>
                      </a:lnTo>
                      <a:lnTo>
                        <a:pt x="1248" y="545"/>
                      </a:lnTo>
                      <a:lnTo>
                        <a:pt x="1196" y="491"/>
                      </a:lnTo>
                      <a:lnTo>
                        <a:pt x="1143" y="439"/>
                      </a:lnTo>
                      <a:lnTo>
                        <a:pt x="1087" y="389"/>
                      </a:lnTo>
                      <a:lnTo>
                        <a:pt x="1028" y="341"/>
                      </a:lnTo>
                      <a:lnTo>
                        <a:pt x="967" y="299"/>
                      </a:lnTo>
                      <a:lnTo>
                        <a:pt x="903" y="256"/>
                      </a:lnTo>
                      <a:lnTo>
                        <a:pt x="839" y="217"/>
                      </a:lnTo>
                      <a:lnTo>
                        <a:pt x="770" y="181"/>
                      </a:lnTo>
                      <a:lnTo>
                        <a:pt x="701" y="148"/>
                      </a:lnTo>
                      <a:lnTo>
                        <a:pt x="628" y="118"/>
                      </a:lnTo>
                      <a:lnTo>
                        <a:pt x="556" y="92"/>
                      </a:lnTo>
                      <a:lnTo>
                        <a:pt x="481" y="68"/>
                      </a:lnTo>
                      <a:lnTo>
                        <a:pt x="404" y="47"/>
                      </a:lnTo>
                      <a:lnTo>
                        <a:pt x="325" y="31"/>
                      </a:lnTo>
                      <a:lnTo>
                        <a:pt x="245" y="18"/>
                      </a:lnTo>
                      <a:lnTo>
                        <a:pt x="164" y="8"/>
                      </a:lnTo>
                      <a:lnTo>
                        <a:pt x="84" y="3"/>
                      </a:lnTo>
                      <a:lnTo>
                        <a:pt x="0" y="0"/>
                      </a:lnTo>
                      <a:lnTo>
                        <a:pt x="0" y="117"/>
                      </a:lnTo>
                      <a:lnTo>
                        <a:pt x="77" y="118"/>
                      </a:lnTo>
                      <a:lnTo>
                        <a:pt x="153" y="123"/>
                      </a:lnTo>
                      <a:lnTo>
                        <a:pt x="227" y="133"/>
                      </a:lnTo>
                      <a:lnTo>
                        <a:pt x="300" y="144"/>
                      </a:lnTo>
                      <a:lnTo>
                        <a:pt x="372" y="160"/>
                      </a:lnTo>
                      <a:lnTo>
                        <a:pt x="442" y="179"/>
                      </a:lnTo>
                      <a:lnTo>
                        <a:pt x="513" y="200"/>
                      </a:lnTo>
                      <a:lnTo>
                        <a:pt x="581" y="225"/>
                      </a:lnTo>
                      <a:lnTo>
                        <a:pt x="646" y="253"/>
                      </a:lnTo>
                      <a:lnTo>
                        <a:pt x="711" y="283"/>
                      </a:lnTo>
                      <a:lnTo>
                        <a:pt x="773" y="315"/>
                      </a:lnTo>
                      <a:lnTo>
                        <a:pt x="833" y="352"/>
                      </a:lnTo>
                      <a:lnTo>
                        <a:pt x="892" y="391"/>
                      </a:lnTo>
                      <a:lnTo>
                        <a:pt x="948" y="431"/>
                      </a:lnTo>
                      <a:lnTo>
                        <a:pt x="1003" y="475"/>
                      </a:lnTo>
                      <a:lnTo>
                        <a:pt x="1055" y="520"/>
                      </a:lnTo>
                      <a:lnTo>
                        <a:pt x="1103" y="568"/>
                      </a:lnTo>
                      <a:lnTo>
                        <a:pt x="1151" y="618"/>
                      </a:lnTo>
                      <a:lnTo>
                        <a:pt x="1195" y="670"/>
                      </a:lnTo>
                      <a:lnTo>
                        <a:pt x="1237" y="725"/>
                      </a:lnTo>
                      <a:lnTo>
                        <a:pt x="1277" y="780"/>
                      </a:lnTo>
                      <a:lnTo>
                        <a:pt x="1312" y="837"/>
                      </a:lnTo>
                      <a:lnTo>
                        <a:pt x="1345" y="897"/>
                      </a:lnTo>
                      <a:lnTo>
                        <a:pt x="1375" y="958"/>
                      </a:lnTo>
                      <a:lnTo>
                        <a:pt x="1401" y="1020"/>
                      </a:lnTo>
                      <a:lnTo>
                        <a:pt x="1425" y="1085"/>
                      </a:lnTo>
                      <a:lnTo>
                        <a:pt x="1445" y="1150"/>
                      </a:lnTo>
                      <a:lnTo>
                        <a:pt x="1462" y="1216"/>
                      </a:lnTo>
                      <a:lnTo>
                        <a:pt x="1475" y="1283"/>
                      </a:lnTo>
                      <a:lnTo>
                        <a:pt x="1485" y="1352"/>
                      </a:lnTo>
                      <a:lnTo>
                        <a:pt x="1491" y="1422"/>
                      </a:lnTo>
                      <a:lnTo>
                        <a:pt x="1492" y="1493"/>
                      </a:lnTo>
                      <a:lnTo>
                        <a:pt x="1492" y="1493"/>
                      </a:lnTo>
                      <a:lnTo>
                        <a:pt x="1619" y="14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617360" y="3340080"/>
                  <a:ext cx="235800" cy="274680"/>
                </a:xfrm>
                <a:custGeom>
                  <a:avLst/>
                  <a:gdLst/>
                  <a:ahLst/>
                  <a:rect l="l" t="t" r="r" b="b"/>
                  <a:pathLst>
                    <a:path w="1619" h="1493">
                      <a:moveTo>
                        <a:pt x="0" y="1493"/>
                      </a:moveTo>
                      <a:lnTo>
                        <a:pt x="0" y="1493"/>
                      </a:lnTo>
                      <a:lnTo>
                        <a:pt x="84" y="1490"/>
                      </a:lnTo>
                      <a:lnTo>
                        <a:pt x="164" y="1485"/>
                      </a:lnTo>
                      <a:lnTo>
                        <a:pt x="245" y="1476"/>
                      </a:lnTo>
                      <a:lnTo>
                        <a:pt x="325" y="1462"/>
                      </a:lnTo>
                      <a:lnTo>
                        <a:pt x="404" y="1446"/>
                      </a:lnTo>
                      <a:lnTo>
                        <a:pt x="481" y="1426"/>
                      </a:lnTo>
                      <a:lnTo>
                        <a:pt x="556" y="1402"/>
                      </a:lnTo>
                      <a:lnTo>
                        <a:pt x="628" y="1375"/>
                      </a:lnTo>
                      <a:lnTo>
                        <a:pt x="701" y="1345"/>
                      </a:lnTo>
                      <a:lnTo>
                        <a:pt x="770" y="1313"/>
                      </a:lnTo>
                      <a:lnTo>
                        <a:pt x="839" y="1276"/>
                      </a:lnTo>
                      <a:lnTo>
                        <a:pt x="903" y="1238"/>
                      </a:lnTo>
                      <a:lnTo>
                        <a:pt x="967" y="1195"/>
                      </a:lnTo>
                      <a:lnTo>
                        <a:pt x="1028" y="1152"/>
                      </a:lnTo>
                      <a:lnTo>
                        <a:pt x="1087" y="1104"/>
                      </a:lnTo>
                      <a:lnTo>
                        <a:pt x="1143" y="1055"/>
                      </a:lnTo>
                      <a:lnTo>
                        <a:pt x="1196" y="1003"/>
                      </a:lnTo>
                      <a:lnTo>
                        <a:pt x="1248" y="948"/>
                      </a:lnTo>
                      <a:lnTo>
                        <a:pt x="1295" y="892"/>
                      </a:lnTo>
                      <a:lnTo>
                        <a:pt x="1341" y="833"/>
                      </a:lnTo>
                      <a:lnTo>
                        <a:pt x="1383" y="774"/>
                      </a:lnTo>
                      <a:lnTo>
                        <a:pt x="1423" y="710"/>
                      </a:lnTo>
                      <a:lnTo>
                        <a:pt x="1458" y="647"/>
                      </a:lnTo>
                      <a:lnTo>
                        <a:pt x="1491" y="580"/>
                      </a:lnTo>
                      <a:lnTo>
                        <a:pt x="1519" y="513"/>
                      </a:lnTo>
                      <a:lnTo>
                        <a:pt x="1545" y="444"/>
                      </a:lnTo>
                      <a:lnTo>
                        <a:pt x="1568" y="373"/>
                      </a:lnTo>
                      <a:lnTo>
                        <a:pt x="1585" y="300"/>
                      </a:lnTo>
                      <a:lnTo>
                        <a:pt x="1599" y="227"/>
                      </a:lnTo>
                      <a:lnTo>
                        <a:pt x="1610" y="152"/>
                      </a:lnTo>
                      <a:lnTo>
                        <a:pt x="1615" y="77"/>
                      </a:lnTo>
                      <a:lnTo>
                        <a:pt x="1619" y="0"/>
                      </a:lnTo>
                      <a:lnTo>
                        <a:pt x="1492" y="0"/>
                      </a:lnTo>
                      <a:lnTo>
                        <a:pt x="1491" y="71"/>
                      </a:lnTo>
                      <a:lnTo>
                        <a:pt x="1485" y="141"/>
                      </a:lnTo>
                      <a:lnTo>
                        <a:pt x="1475" y="210"/>
                      </a:lnTo>
                      <a:lnTo>
                        <a:pt x="1462" y="277"/>
                      </a:lnTo>
                      <a:lnTo>
                        <a:pt x="1445" y="344"/>
                      </a:lnTo>
                      <a:lnTo>
                        <a:pt x="1425" y="408"/>
                      </a:lnTo>
                      <a:lnTo>
                        <a:pt x="1401" y="473"/>
                      </a:lnTo>
                      <a:lnTo>
                        <a:pt x="1375" y="536"/>
                      </a:lnTo>
                      <a:lnTo>
                        <a:pt x="1345" y="596"/>
                      </a:lnTo>
                      <a:lnTo>
                        <a:pt x="1312" y="656"/>
                      </a:lnTo>
                      <a:lnTo>
                        <a:pt x="1277" y="713"/>
                      </a:lnTo>
                      <a:lnTo>
                        <a:pt x="1237" y="769"/>
                      </a:lnTo>
                      <a:lnTo>
                        <a:pt x="1195" y="823"/>
                      </a:lnTo>
                      <a:lnTo>
                        <a:pt x="1151" y="875"/>
                      </a:lnTo>
                      <a:lnTo>
                        <a:pt x="1103" y="925"/>
                      </a:lnTo>
                      <a:lnTo>
                        <a:pt x="1055" y="973"/>
                      </a:lnTo>
                      <a:lnTo>
                        <a:pt x="1003" y="1018"/>
                      </a:lnTo>
                      <a:lnTo>
                        <a:pt x="948" y="1062"/>
                      </a:lnTo>
                      <a:lnTo>
                        <a:pt x="892" y="1103"/>
                      </a:lnTo>
                      <a:lnTo>
                        <a:pt x="833" y="1142"/>
                      </a:lnTo>
                      <a:lnTo>
                        <a:pt x="773" y="1178"/>
                      </a:lnTo>
                      <a:lnTo>
                        <a:pt x="711" y="1210"/>
                      </a:lnTo>
                      <a:lnTo>
                        <a:pt x="646" y="1241"/>
                      </a:lnTo>
                      <a:lnTo>
                        <a:pt x="581" y="1269"/>
                      </a:lnTo>
                      <a:lnTo>
                        <a:pt x="513" y="1293"/>
                      </a:lnTo>
                      <a:lnTo>
                        <a:pt x="442" y="1315"/>
                      </a:lnTo>
                      <a:lnTo>
                        <a:pt x="372" y="1334"/>
                      </a:lnTo>
                      <a:lnTo>
                        <a:pt x="300" y="1349"/>
                      </a:lnTo>
                      <a:lnTo>
                        <a:pt x="227" y="1361"/>
                      </a:lnTo>
                      <a:lnTo>
                        <a:pt x="153" y="1370"/>
                      </a:lnTo>
                      <a:lnTo>
                        <a:pt x="77" y="1375"/>
                      </a:lnTo>
                      <a:lnTo>
                        <a:pt x="0" y="1376"/>
                      </a:lnTo>
                      <a:lnTo>
                        <a:pt x="0" y="1376"/>
                      </a:lnTo>
                      <a:lnTo>
                        <a:pt x="0" y="14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378680" y="3340080"/>
                  <a:ext cx="238680" cy="274680"/>
                </a:xfrm>
                <a:custGeom>
                  <a:avLst/>
                  <a:gdLst/>
                  <a:ahLst/>
                  <a:rect l="l" t="t" r="r" b="b"/>
                  <a:pathLst>
                    <a:path w="1619" h="149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77"/>
                      </a:lnTo>
                      <a:lnTo>
                        <a:pt x="9" y="152"/>
                      </a:lnTo>
                      <a:lnTo>
                        <a:pt x="19" y="227"/>
                      </a:lnTo>
                      <a:lnTo>
                        <a:pt x="34" y="300"/>
                      </a:lnTo>
                      <a:lnTo>
                        <a:pt x="51" y="373"/>
                      </a:lnTo>
                      <a:lnTo>
                        <a:pt x="74" y="444"/>
                      </a:lnTo>
                      <a:lnTo>
                        <a:pt x="100" y="513"/>
                      </a:lnTo>
                      <a:lnTo>
                        <a:pt x="128" y="580"/>
                      </a:lnTo>
                      <a:lnTo>
                        <a:pt x="161" y="647"/>
                      </a:lnTo>
                      <a:lnTo>
                        <a:pt x="196" y="710"/>
                      </a:lnTo>
                      <a:lnTo>
                        <a:pt x="235" y="774"/>
                      </a:lnTo>
                      <a:lnTo>
                        <a:pt x="277" y="833"/>
                      </a:lnTo>
                      <a:lnTo>
                        <a:pt x="324" y="892"/>
                      </a:lnTo>
                      <a:lnTo>
                        <a:pt x="370" y="948"/>
                      </a:lnTo>
                      <a:lnTo>
                        <a:pt x="422" y="1003"/>
                      </a:lnTo>
                      <a:lnTo>
                        <a:pt x="475" y="1055"/>
                      </a:lnTo>
                      <a:lnTo>
                        <a:pt x="532" y="1104"/>
                      </a:lnTo>
                      <a:lnTo>
                        <a:pt x="591" y="1152"/>
                      </a:lnTo>
                      <a:lnTo>
                        <a:pt x="652" y="1195"/>
                      </a:lnTo>
                      <a:lnTo>
                        <a:pt x="715" y="1238"/>
                      </a:lnTo>
                      <a:lnTo>
                        <a:pt x="780" y="1276"/>
                      </a:lnTo>
                      <a:lnTo>
                        <a:pt x="849" y="1313"/>
                      </a:lnTo>
                      <a:lnTo>
                        <a:pt x="918" y="1345"/>
                      </a:lnTo>
                      <a:lnTo>
                        <a:pt x="991" y="1375"/>
                      </a:lnTo>
                      <a:lnTo>
                        <a:pt x="1063" y="1402"/>
                      </a:lnTo>
                      <a:lnTo>
                        <a:pt x="1138" y="1426"/>
                      </a:lnTo>
                      <a:lnTo>
                        <a:pt x="1215" y="1446"/>
                      </a:lnTo>
                      <a:lnTo>
                        <a:pt x="1294" y="1462"/>
                      </a:lnTo>
                      <a:lnTo>
                        <a:pt x="1373" y="1476"/>
                      </a:lnTo>
                      <a:lnTo>
                        <a:pt x="1455" y="1485"/>
                      </a:lnTo>
                      <a:lnTo>
                        <a:pt x="1535" y="1490"/>
                      </a:lnTo>
                      <a:lnTo>
                        <a:pt x="1619" y="1493"/>
                      </a:lnTo>
                      <a:lnTo>
                        <a:pt x="1619" y="1376"/>
                      </a:lnTo>
                      <a:lnTo>
                        <a:pt x="1542" y="1375"/>
                      </a:lnTo>
                      <a:lnTo>
                        <a:pt x="1466" y="1370"/>
                      </a:lnTo>
                      <a:lnTo>
                        <a:pt x="1391" y="1361"/>
                      </a:lnTo>
                      <a:lnTo>
                        <a:pt x="1319" y="1349"/>
                      </a:lnTo>
                      <a:lnTo>
                        <a:pt x="1246" y="1334"/>
                      </a:lnTo>
                      <a:lnTo>
                        <a:pt x="1176" y="1315"/>
                      </a:lnTo>
                      <a:lnTo>
                        <a:pt x="1106" y="1293"/>
                      </a:lnTo>
                      <a:lnTo>
                        <a:pt x="1038" y="1269"/>
                      </a:lnTo>
                      <a:lnTo>
                        <a:pt x="972" y="1241"/>
                      </a:lnTo>
                      <a:lnTo>
                        <a:pt x="908" y="1210"/>
                      </a:lnTo>
                      <a:lnTo>
                        <a:pt x="846" y="1178"/>
                      </a:lnTo>
                      <a:lnTo>
                        <a:pt x="786" y="1142"/>
                      </a:lnTo>
                      <a:lnTo>
                        <a:pt x="727" y="1103"/>
                      </a:lnTo>
                      <a:lnTo>
                        <a:pt x="670" y="1062"/>
                      </a:lnTo>
                      <a:lnTo>
                        <a:pt x="616" y="1018"/>
                      </a:lnTo>
                      <a:lnTo>
                        <a:pt x="564" y="973"/>
                      </a:lnTo>
                      <a:lnTo>
                        <a:pt x="515" y="925"/>
                      </a:lnTo>
                      <a:lnTo>
                        <a:pt x="468" y="875"/>
                      </a:lnTo>
                      <a:lnTo>
                        <a:pt x="423" y="823"/>
                      </a:lnTo>
                      <a:lnTo>
                        <a:pt x="381" y="769"/>
                      </a:lnTo>
                      <a:lnTo>
                        <a:pt x="342" y="713"/>
                      </a:lnTo>
                      <a:lnTo>
                        <a:pt x="307" y="656"/>
                      </a:lnTo>
                      <a:lnTo>
                        <a:pt x="274" y="596"/>
                      </a:lnTo>
                      <a:lnTo>
                        <a:pt x="243" y="536"/>
                      </a:lnTo>
                      <a:lnTo>
                        <a:pt x="217" y="473"/>
                      </a:lnTo>
                      <a:lnTo>
                        <a:pt x="194" y="408"/>
                      </a:lnTo>
                      <a:lnTo>
                        <a:pt x="173" y="344"/>
                      </a:lnTo>
                      <a:lnTo>
                        <a:pt x="156" y="277"/>
                      </a:lnTo>
                      <a:lnTo>
                        <a:pt x="144" y="210"/>
                      </a:lnTo>
                      <a:lnTo>
                        <a:pt x="134" y="141"/>
                      </a:lnTo>
                      <a:lnTo>
                        <a:pt x="128" y="71"/>
                      </a:lnTo>
                      <a:lnTo>
                        <a:pt x="127" y="0"/>
                      </a:lnTo>
                      <a:lnTo>
                        <a:pt x="12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78680" y="3063960"/>
                  <a:ext cx="238680" cy="276120"/>
                </a:xfrm>
                <a:custGeom>
                  <a:avLst/>
                  <a:gdLst/>
                  <a:ahLst/>
                  <a:rect l="l" t="t" r="r" b="b"/>
                  <a:pathLst>
                    <a:path w="1619" h="1493">
                      <a:moveTo>
                        <a:pt x="1619" y="0"/>
                      </a:moveTo>
                      <a:lnTo>
                        <a:pt x="1619" y="0"/>
                      </a:lnTo>
                      <a:lnTo>
                        <a:pt x="1535" y="3"/>
                      </a:lnTo>
                      <a:lnTo>
                        <a:pt x="1455" y="8"/>
                      </a:lnTo>
                      <a:lnTo>
                        <a:pt x="1373" y="18"/>
                      </a:lnTo>
                      <a:lnTo>
                        <a:pt x="1294" y="31"/>
                      </a:lnTo>
                      <a:lnTo>
                        <a:pt x="1215" y="47"/>
                      </a:lnTo>
                      <a:lnTo>
                        <a:pt x="1138" y="68"/>
                      </a:lnTo>
                      <a:lnTo>
                        <a:pt x="1063" y="92"/>
                      </a:lnTo>
                      <a:lnTo>
                        <a:pt x="991" y="118"/>
                      </a:lnTo>
                      <a:lnTo>
                        <a:pt x="918" y="148"/>
                      </a:lnTo>
                      <a:lnTo>
                        <a:pt x="849" y="181"/>
                      </a:lnTo>
                      <a:lnTo>
                        <a:pt x="780" y="217"/>
                      </a:lnTo>
                      <a:lnTo>
                        <a:pt x="715" y="256"/>
                      </a:lnTo>
                      <a:lnTo>
                        <a:pt x="652" y="299"/>
                      </a:lnTo>
                      <a:lnTo>
                        <a:pt x="591" y="341"/>
                      </a:lnTo>
                      <a:lnTo>
                        <a:pt x="532" y="389"/>
                      </a:lnTo>
                      <a:lnTo>
                        <a:pt x="475" y="439"/>
                      </a:lnTo>
                      <a:lnTo>
                        <a:pt x="422" y="491"/>
                      </a:lnTo>
                      <a:lnTo>
                        <a:pt x="370" y="545"/>
                      </a:lnTo>
                      <a:lnTo>
                        <a:pt x="324" y="601"/>
                      </a:lnTo>
                      <a:lnTo>
                        <a:pt x="277" y="660"/>
                      </a:lnTo>
                      <a:lnTo>
                        <a:pt x="235" y="719"/>
                      </a:lnTo>
                      <a:lnTo>
                        <a:pt x="196" y="783"/>
                      </a:lnTo>
                      <a:lnTo>
                        <a:pt x="161" y="847"/>
                      </a:lnTo>
                      <a:lnTo>
                        <a:pt x="128" y="914"/>
                      </a:lnTo>
                      <a:lnTo>
                        <a:pt x="100" y="981"/>
                      </a:lnTo>
                      <a:lnTo>
                        <a:pt x="74" y="1049"/>
                      </a:lnTo>
                      <a:lnTo>
                        <a:pt x="51" y="1120"/>
                      </a:lnTo>
                      <a:lnTo>
                        <a:pt x="34" y="1194"/>
                      </a:lnTo>
                      <a:lnTo>
                        <a:pt x="19" y="1267"/>
                      </a:lnTo>
                      <a:lnTo>
                        <a:pt x="9" y="1342"/>
                      </a:lnTo>
                      <a:lnTo>
                        <a:pt x="3" y="1416"/>
                      </a:lnTo>
                      <a:lnTo>
                        <a:pt x="0" y="1493"/>
                      </a:lnTo>
                      <a:lnTo>
                        <a:pt x="127" y="1493"/>
                      </a:lnTo>
                      <a:lnTo>
                        <a:pt x="128" y="1422"/>
                      </a:lnTo>
                      <a:lnTo>
                        <a:pt x="134" y="1352"/>
                      </a:lnTo>
                      <a:lnTo>
                        <a:pt x="144" y="1283"/>
                      </a:lnTo>
                      <a:lnTo>
                        <a:pt x="156" y="1216"/>
                      </a:lnTo>
                      <a:lnTo>
                        <a:pt x="173" y="1150"/>
                      </a:lnTo>
                      <a:lnTo>
                        <a:pt x="194" y="1085"/>
                      </a:lnTo>
                      <a:lnTo>
                        <a:pt x="217" y="1020"/>
                      </a:lnTo>
                      <a:lnTo>
                        <a:pt x="243" y="958"/>
                      </a:lnTo>
                      <a:lnTo>
                        <a:pt x="274" y="897"/>
                      </a:lnTo>
                      <a:lnTo>
                        <a:pt x="307" y="837"/>
                      </a:lnTo>
                      <a:lnTo>
                        <a:pt x="342" y="780"/>
                      </a:lnTo>
                      <a:lnTo>
                        <a:pt x="381" y="725"/>
                      </a:lnTo>
                      <a:lnTo>
                        <a:pt x="423" y="670"/>
                      </a:lnTo>
                      <a:lnTo>
                        <a:pt x="468" y="618"/>
                      </a:lnTo>
                      <a:lnTo>
                        <a:pt x="515" y="568"/>
                      </a:lnTo>
                      <a:lnTo>
                        <a:pt x="564" y="520"/>
                      </a:lnTo>
                      <a:lnTo>
                        <a:pt x="616" y="475"/>
                      </a:lnTo>
                      <a:lnTo>
                        <a:pt x="670" y="431"/>
                      </a:lnTo>
                      <a:lnTo>
                        <a:pt x="727" y="391"/>
                      </a:lnTo>
                      <a:lnTo>
                        <a:pt x="786" y="352"/>
                      </a:lnTo>
                      <a:lnTo>
                        <a:pt x="846" y="315"/>
                      </a:lnTo>
                      <a:lnTo>
                        <a:pt x="908" y="283"/>
                      </a:lnTo>
                      <a:lnTo>
                        <a:pt x="972" y="253"/>
                      </a:lnTo>
                      <a:lnTo>
                        <a:pt x="1038" y="225"/>
                      </a:lnTo>
                      <a:lnTo>
                        <a:pt x="1106" y="200"/>
                      </a:lnTo>
                      <a:lnTo>
                        <a:pt x="1176" y="179"/>
                      </a:lnTo>
                      <a:lnTo>
                        <a:pt x="1246" y="160"/>
                      </a:lnTo>
                      <a:lnTo>
                        <a:pt x="1319" y="144"/>
                      </a:lnTo>
                      <a:lnTo>
                        <a:pt x="1391" y="133"/>
                      </a:lnTo>
                      <a:lnTo>
                        <a:pt x="1466" y="123"/>
                      </a:lnTo>
                      <a:lnTo>
                        <a:pt x="1542" y="118"/>
                      </a:lnTo>
                      <a:lnTo>
                        <a:pt x="1619" y="117"/>
                      </a:lnTo>
                      <a:lnTo>
                        <a:pt x="1619" y="117"/>
                      </a:lnTo>
                      <a:lnTo>
                        <a:pt x="16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384080" y="3394080"/>
                  <a:ext cx="67320" cy="285840"/>
                </a:xfrm>
                <a:custGeom>
                  <a:avLst/>
                  <a:gdLst/>
                  <a:ahLst/>
                  <a:rect l="l" t="t" r="r" b="b"/>
                  <a:pathLst>
                    <a:path w="469" h="1543">
                      <a:moveTo>
                        <a:pt x="408" y="1532"/>
                      </a:moveTo>
                      <a:lnTo>
                        <a:pt x="469" y="1520"/>
                      </a:lnTo>
                      <a:lnTo>
                        <a:pt x="123" y="0"/>
                      </a:lnTo>
                      <a:lnTo>
                        <a:pt x="0" y="23"/>
                      </a:lnTo>
                      <a:lnTo>
                        <a:pt x="347" y="1543"/>
                      </a:lnTo>
                      <a:lnTo>
                        <a:pt x="408" y="15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567680" y="3532320"/>
                  <a:ext cx="201960" cy="225360"/>
                </a:xfrm>
                <a:custGeom>
                  <a:avLst/>
                  <a:gdLst/>
                  <a:ahLst/>
                  <a:rect l="l" t="t" r="r" b="b"/>
                  <a:pathLst>
                    <a:path w="1369" h="1218">
                      <a:moveTo>
                        <a:pt x="43" y="1176"/>
                      </a:moveTo>
                      <a:lnTo>
                        <a:pt x="86" y="1218"/>
                      </a:lnTo>
                      <a:lnTo>
                        <a:pt x="1369" y="84"/>
                      </a:lnTo>
                      <a:lnTo>
                        <a:pt x="1283" y="0"/>
                      </a:lnTo>
                      <a:lnTo>
                        <a:pt x="0" y="1134"/>
                      </a:lnTo>
                      <a:lnTo>
                        <a:pt x="43" y="11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823640" y="3257640"/>
                  <a:ext cx="147960" cy="480960"/>
                </a:xfrm>
                <a:custGeom>
                  <a:avLst/>
                  <a:gdLst/>
                  <a:ahLst/>
                  <a:rect l="l" t="t" r="r" b="b"/>
                  <a:pathLst>
                    <a:path w="1007" h="2605">
                      <a:moveTo>
                        <a:pt x="947" y="2587"/>
                      </a:moveTo>
                      <a:lnTo>
                        <a:pt x="1007" y="2569"/>
                      </a:lnTo>
                      <a:lnTo>
                        <a:pt x="120" y="0"/>
                      </a:lnTo>
                      <a:lnTo>
                        <a:pt x="0" y="35"/>
                      </a:lnTo>
                      <a:lnTo>
                        <a:pt x="887" y="2605"/>
                      </a:lnTo>
                      <a:lnTo>
                        <a:pt x="947" y="258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620240" y="3065400"/>
                  <a:ext cx="387000" cy="20880"/>
                </a:xfrm>
                <a:custGeom>
                  <a:avLst/>
                  <a:gdLst/>
                  <a:ahLst/>
                  <a:rect l="l" t="t" r="r" b="b"/>
                  <a:pathLst>
                    <a:path w="2643" h="121">
                      <a:moveTo>
                        <a:pt x="2643" y="59"/>
                      </a:moveTo>
                      <a:lnTo>
                        <a:pt x="2643" y="0"/>
                      </a:lnTo>
                      <a:lnTo>
                        <a:pt x="0" y="4"/>
                      </a:lnTo>
                      <a:lnTo>
                        <a:pt x="0" y="121"/>
                      </a:lnTo>
                      <a:lnTo>
                        <a:pt x="2643" y="117"/>
                      </a:lnTo>
                      <a:lnTo>
                        <a:pt x="2643" y="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483800" y="3097080"/>
                  <a:ext cx="212400" cy="163800"/>
                </a:xfrm>
                <a:custGeom>
                  <a:avLst/>
                  <a:gdLst/>
                  <a:ahLst/>
                  <a:rect l="l" t="t" r="r" b="b"/>
                  <a:pathLst>
                    <a:path w="1433" h="897">
                      <a:moveTo>
                        <a:pt x="1426" y="0"/>
                      </a:moveTo>
                      <a:lnTo>
                        <a:pt x="1426" y="0"/>
                      </a:lnTo>
                      <a:lnTo>
                        <a:pt x="1371" y="6"/>
                      </a:lnTo>
                      <a:lnTo>
                        <a:pt x="1316" y="14"/>
                      </a:lnTo>
                      <a:lnTo>
                        <a:pt x="1261" y="23"/>
                      </a:lnTo>
                      <a:lnTo>
                        <a:pt x="1206" y="33"/>
                      </a:lnTo>
                      <a:lnTo>
                        <a:pt x="1151" y="46"/>
                      </a:lnTo>
                      <a:lnTo>
                        <a:pt x="1098" y="60"/>
                      </a:lnTo>
                      <a:lnTo>
                        <a:pt x="1045" y="74"/>
                      </a:lnTo>
                      <a:lnTo>
                        <a:pt x="992" y="92"/>
                      </a:lnTo>
                      <a:lnTo>
                        <a:pt x="941" y="110"/>
                      </a:lnTo>
                      <a:lnTo>
                        <a:pt x="889" y="129"/>
                      </a:lnTo>
                      <a:lnTo>
                        <a:pt x="838" y="150"/>
                      </a:lnTo>
                      <a:lnTo>
                        <a:pt x="789" y="172"/>
                      </a:lnTo>
                      <a:lnTo>
                        <a:pt x="739" y="195"/>
                      </a:lnTo>
                      <a:lnTo>
                        <a:pt x="691" y="221"/>
                      </a:lnTo>
                      <a:lnTo>
                        <a:pt x="643" y="247"/>
                      </a:lnTo>
                      <a:lnTo>
                        <a:pt x="598" y="275"/>
                      </a:lnTo>
                      <a:lnTo>
                        <a:pt x="551" y="303"/>
                      </a:lnTo>
                      <a:lnTo>
                        <a:pt x="506" y="334"/>
                      </a:lnTo>
                      <a:lnTo>
                        <a:pt x="463" y="364"/>
                      </a:lnTo>
                      <a:lnTo>
                        <a:pt x="420" y="397"/>
                      </a:lnTo>
                      <a:lnTo>
                        <a:pt x="378" y="430"/>
                      </a:lnTo>
                      <a:lnTo>
                        <a:pt x="339" y="466"/>
                      </a:lnTo>
                      <a:lnTo>
                        <a:pt x="298" y="500"/>
                      </a:lnTo>
                      <a:lnTo>
                        <a:pt x="259" y="538"/>
                      </a:lnTo>
                      <a:lnTo>
                        <a:pt x="223" y="576"/>
                      </a:lnTo>
                      <a:lnTo>
                        <a:pt x="187" y="614"/>
                      </a:lnTo>
                      <a:lnTo>
                        <a:pt x="153" y="655"/>
                      </a:lnTo>
                      <a:lnTo>
                        <a:pt x="119" y="697"/>
                      </a:lnTo>
                      <a:lnTo>
                        <a:pt x="88" y="737"/>
                      </a:lnTo>
                      <a:lnTo>
                        <a:pt x="57" y="781"/>
                      </a:lnTo>
                      <a:lnTo>
                        <a:pt x="28" y="825"/>
                      </a:lnTo>
                      <a:lnTo>
                        <a:pt x="0" y="870"/>
                      </a:lnTo>
                      <a:lnTo>
                        <a:pt x="57" y="897"/>
                      </a:lnTo>
                      <a:lnTo>
                        <a:pt x="83" y="854"/>
                      </a:lnTo>
                      <a:lnTo>
                        <a:pt x="111" y="812"/>
                      </a:lnTo>
                      <a:lnTo>
                        <a:pt x="141" y="771"/>
                      </a:lnTo>
                      <a:lnTo>
                        <a:pt x="171" y="730"/>
                      </a:lnTo>
                      <a:lnTo>
                        <a:pt x="203" y="690"/>
                      </a:lnTo>
                      <a:lnTo>
                        <a:pt x="237" y="652"/>
                      </a:lnTo>
                      <a:lnTo>
                        <a:pt x="271" y="614"/>
                      </a:lnTo>
                      <a:lnTo>
                        <a:pt x="307" y="578"/>
                      </a:lnTo>
                      <a:lnTo>
                        <a:pt x="343" y="542"/>
                      </a:lnTo>
                      <a:lnTo>
                        <a:pt x="382" y="508"/>
                      </a:lnTo>
                      <a:lnTo>
                        <a:pt x="421" y="474"/>
                      </a:lnTo>
                      <a:lnTo>
                        <a:pt x="461" y="441"/>
                      </a:lnTo>
                      <a:lnTo>
                        <a:pt x="502" y="410"/>
                      </a:lnTo>
                      <a:lnTo>
                        <a:pt x="545" y="380"/>
                      </a:lnTo>
                      <a:lnTo>
                        <a:pt x="588" y="351"/>
                      </a:lnTo>
                      <a:lnTo>
                        <a:pt x="632" y="323"/>
                      </a:lnTo>
                      <a:lnTo>
                        <a:pt x="677" y="297"/>
                      </a:lnTo>
                      <a:lnTo>
                        <a:pt x="722" y="272"/>
                      </a:lnTo>
                      <a:lnTo>
                        <a:pt x="769" y="248"/>
                      </a:lnTo>
                      <a:lnTo>
                        <a:pt x="816" y="225"/>
                      </a:lnTo>
                      <a:lnTo>
                        <a:pt x="865" y="203"/>
                      </a:lnTo>
                      <a:lnTo>
                        <a:pt x="914" y="183"/>
                      </a:lnTo>
                      <a:lnTo>
                        <a:pt x="963" y="164"/>
                      </a:lnTo>
                      <a:lnTo>
                        <a:pt x="1014" y="146"/>
                      </a:lnTo>
                      <a:lnTo>
                        <a:pt x="1065" y="131"/>
                      </a:lnTo>
                      <a:lnTo>
                        <a:pt x="1116" y="116"/>
                      </a:lnTo>
                      <a:lnTo>
                        <a:pt x="1167" y="102"/>
                      </a:lnTo>
                      <a:lnTo>
                        <a:pt x="1219" y="90"/>
                      </a:lnTo>
                      <a:lnTo>
                        <a:pt x="1273" y="79"/>
                      </a:lnTo>
                      <a:lnTo>
                        <a:pt x="1325" y="72"/>
                      </a:lnTo>
                      <a:lnTo>
                        <a:pt x="1380" y="65"/>
                      </a:lnTo>
                      <a:lnTo>
                        <a:pt x="1433" y="59"/>
                      </a:lnTo>
                      <a:lnTo>
                        <a:pt x="1433" y="59"/>
                      </a:lnTo>
                      <a:lnTo>
                        <a:pt x="142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693680" y="3094200"/>
                  <a:ext cx="293040" cy="279360"/>
                </a:xfrm>
                <a:custGeom>
                  <a:avLst/>
                  <a:gdLst/>
                  <a:ahLst/>
                  <a:rect l="l" t="t" r="r" b="b"/>
                  <a:pathLst>
                    <a:path w="1992" h="1522">
                      <a:moveTo>
                        <a:pt x="1992" y="1516"/>
                      </a:moveTo>
                      <a:lnTo>
                        <a:pt x="1992" y="1516"/>
                      </a:lnTo>
                      <a:lnTo>
                        <a:pt x="1980" y="1430"/>
                      </a:lnTo>
                      <a:lnTo>
                        <a:pt x="1963" y="1346"/>
                      </a:lnTo>
                      <a:lnTo>
                        <a:pt x="1943" y="1264"/>
                      </a:lnTo>
                      <a:lnTo>
                        <a:pt x="1919" y="1184"/>
                      </a:lnTo>
                      <a:lnTo>
                        <a:pt x="1890" y="1103"/>
                      </a:lnTo>
                      <a:lnTo>
                        <a:pt x="1857" y="1027"/>
                      </a:lnTo>
                      <a:lnTo>
                        <a:pt x="1820" y="952"/>
                      </a:lnTo>
                      <a:lnTo>
                        <a:pt x="1780" y="880"/>
                      </a:lnTo>
                      <a:lnTo>
                        <a:pt x="1735" y="808"/>
                      </a:lnTo>
                      <a:lnTo>
                        <a:pt x="1687" y="740"/>
                      </a:lnTo>
                      <a:lnTo>
                        <a:pt x="1635" y="673"/>
                      </a:lnTo>
                      <a:lnTo>
                        <a:pt x="1582" y="611"/>
                      </a:lnTo>
                      <a:lnTo>
                        <a:pt x="1524" y="549"/>
                      </a:lnTo>
                      <a:lnTo>
                        <a:pt x="1463" y="491"/>
                      </a:lnTo>
                      <a:lnTo>
                        <a:pt x="1400" y="435"/>
                      </a:lnTo>
                      <a:lnTo>
                        <a:pt x="1334" y="382"/>
                      </a:lnTo>
                      <a:lnTo>
                        <a:pt x="1265" y="334"/>
                      </a:lnTo>
                      <a:lnTo>
                        <a:pt x="1194" y="287"/>
                      </a:lnTo>
                      <a:lnTo>
                        <a:pt x="1119" y="243"/>
                      </a:lnTo>
                      <a:lnTo>
                        <a:pt x="1043" y="202"/>
                      </a:lnTo>
                      <a:lnTo>
                        <a:pt x="965" y="166"/>
                      </a:lnTo>
                      <a:lnTo>
                        <a:pt x="886" y="131"/>
                      </a:lnTo>
                      <a:lnTo>
                        <a:pt x="802" y="102"/>
                      </a:lnTo>
                      <a:lnTo>
                        <a:pt x="719" y="76"/>
                      </a:lnTo>
                      <a:lnTo>
                        <a:pt x="634" y="53"/>
                      </a:lnTo>
                      <a:lnTo>
                        <a:pt x="546" y="35"/>
                      </a:lnTo>
                      <a:lnTo>
                        <a:pt x="458" y="20"/>
                      </a:lnTo>
                      <a:lnTo>
                        <a:pt x="370" y="8"/>
                      </a:lnTo>
                      <a:lnTo>
                        <a:pt x="278" y="2"/>
                      </a:lnTo>
                      <a:lnTo>
                        <a:pt x="186" y="0"/>
                      </a:lnTo>
                      <a:lnTo>
                        <a:pt x="94" y="1"/>
                      </a:lnTo>
                      <a:lnTo>
                        <a:pt x="0" y="7"/>
                      </a:lnTo>
                      <a:lnTo>
                        <a:pt x="7" y="66"/>
                      </a:lnTo>
                      <a:lnTo>
                        <a:pt x="97" y="59"/>
                      </a:lnTo>
                      <a:lnTo>
                        <a:pt x="186" y="58"/>
                      </a:lnTo>
                      <a:lnTo>
                        <a:pt x="276" y="60"/>
                      </a:lnTo>
                      <a:lnTo>
                        <a:pt x="363" y="67"/>
                      </a:lnTo>
                      <a:lnTo>
                        <a:pt x="449" y="78"/>
                      </a:lnTo>
                      <a:lnTo>
                        <a:pt x="535" y="92"/>
                      </a:lnTo>
                      <a:lnTo>
                        <a:pt x="619" y="109"/>
                      </a:lnTo>
                      <a:lnTo>
                        <a:pt x="701" y="132"/>
                      </a:lnTo>
                      <a:lnTo>
                        <a:pt x="782" y="156"/>
                      </a:lnTo>
                      <a:lnTo>
                        <a:pt x="861" y="186"/>
                      </a:lnTo>
                      <a:lnTo>
                        <a:pt x="938" y="218"/>
                      </a:lnTo>
                      <a:lnTo>
                        <a:pt x="1014" y="255"/>
                      </a:lnTo>
                      <a:lnTo>
                        <a:pt x="1087" y="293"/>
                      </a:lnTo>
                      <a:lnTo>
                        <a:pt x="1157" y="335"/>
                      </a:lnTo>
                      <a:lnTo>
                        <a:pt x="1226" y="380"/>
                      </a:lnTo>
                      <a:lnTo>
                        <a:pt x="1293" y="428"/>
                      </a:lnTo>
                      <a:lnTo>
                        <a:pt x="1357" y="479"/>
                      </a:lnTo>
                      <a:lnTo>
                        <a:pt x="1418" y="532"/>
                      </a:lnTo>
                      <a:lnTo>
                        <a:pt x="1477" y="589"/>
                      </a:lnTo>
                      <a:lnTo>
                        <a:pt x="1532" y="648"/>
                      </a:lnTo>
                      <a:lnTo>
                        <a:pt x="1585" y="709"/>
                      </a:lnTo>
                      <a:lnTo>
                        <a:pt x="1635" y="774"/>
                      </a:lnTo>
                      <a:lnTo>
                        <a:pt x="1680" y="839"/>
                      </a:lnTo>
                      <a:lnTo>
                        <a:pt x="1723" y="907"/>
                      </a:lnTo>
                      <a:lnTo>
                        <a:pt x="1763" y="977"/>
                      </a:lnTo>
                      <a:lnTo>
                        <a:pt x="1798" y="1050"/>
                      </a:lnTo>
                      <a:lnTo>
                        <a:pt x="1831" y="1124"/>
                      </a:lnTo>
                      <a:lnTo>
                        <a:pt x="1858" y="1201"/>
                      </a:lnTo>
                      <a:lnTo>
                        <a:pt x="1882" y="1279"/>
                      </a:lnTo>
                      <a:lnTo>
                        <a:pt x="1902" y="1358"/>
                      </a:lnTo>
                      <a:lnTo>
                        <a:pt x="1917" y="1439"/>
                      </a:lnTo>
                      <a:lnTo>
                        <a:pt x="1928" y="1522"/>
                      </a:lnTo>
                      <a:lnTo>
                        <a:pt x="1928" y="1522"/>
                      </a:lnTo>
                      <a:lnTo>
                        <a:pt x="1992" y="15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744800" y="3373560"/>
                  <a:ext cx="244800" cy="341280"/>
                </a:xfrm>
                <a:custGeom>
                  <a:avLst/>
                  <a:gdLst/>
                  <a:ahLst/>
                  <a:rect l="l" t="t" r="r" b="b"/>
                  <a:pathLst>
                    <a:path w="1653" h="1840">
                      <a:moveTo>
                        <a:pt x="7" y="1840"/>
                      </a:moveTo>
                      <a:lnTo>
                        <a:pt x="7" y="1840"/>
                      </a:lnTo>
                      <a:lnTo>
                        <a:pt x="100" y="1829"/>
                      </a:lnTo>
                      <a:lnTo>
                        <a:pt x="191" y="1814"/>
                      </a:lnTo>
                      <a:lnTo>
                        <a:pt x="281" y="1795"/>
                      </a:lnTo>
                      <a:lnTo>
                        <a:pt x="368" y="1773"/>
                      </a:lnTo>
                      <a:lnTo>
                        <a:pt x="454" y="1746"/>
                      </a:lnTo>
                      <a:lnTo>
                        <a:pt x="538" y="1716"/>
                      </a:lnTo>
                      <a:lnTo>
                        <a:pt x="618" y="1681"/>
                      </a:lnTo>
                      <a:lnTo>
                        <a:pt x="697" y="1645"/>
                      </a:lnTo>
                      <a:lnTo>
                        <a:pt x="775" y="1604"/>
                      </a:lnTo>
                      <a:lnTo>
                        <a:pt x="849" y="1559"/>
                      </a:lnTo>
                      <a:lnTo>
                        <a:pt x="921" y="1512"/>
                      </a:lnTo>
                      <a:lnTo>
                        <a:pt x="989" y="1461"/>
                      </a:lnTo>
                      <a:lnTo>
                        <a:pt x="1056" y="1409"/>
                      </a:lnTo>
                      <a:lnTo>
                        <a:pt x="1120" y="1353"/>
                      </a:lnTo>
                      <a:lnTo>
                        <a:pt x="1180" y="1294"/>
                      </a:lnTo>
                      <a:lnTo>
                        <a:pt x="1237" y="1233"/>
                      </a:lnTo>
                      <a:lnTo>
                        <a:pt x="1291" y="1169"/>
                      </a:lnTo>
                      <a:lnTo>
                        <a:pt x="1341" y="1104"/>
                      </a:lnTo>
                      <a:lnTo>
                        <a:pt x="1389" y="1035"/>
                      </a:lnTo>
                      <a:lnTo>
                        <a:pt x="1433" y="965"/>
                      </a:lnTo>
                      <a:lnTo>
                        <a:pt x="1472" y="893"/>
                      </a:lnTo>
                      <a:lnTo>
                        <a:pt x="1509" y="819"/>
                      </a:lnTo>
                      <a:lnTo>
                        <a:pt x="1541" y="742"/>
                      </a:lnTo>
                      <a:lnTo>
                        <a:pt x="1570" y="665"/>
                      </a:lnTo>
                      <a:lnTo>
                        <a:pt x="1594" y="586"/>
                      </a:lnTo>
                      <a:lnTo>
                        <a:pt x="1614" y="506"/>
                      </a:lnTo>
                      <a:lnTo>
                        <a:pt x="1631" y="424"/>
                      </a:lnTo>
                      <a:lnTo>
                        <a:pt x="1643" y="341"/>
                      </a:lnTo>
                      <a:lnTo>
                        <a:pt x="1649" y="258"/>
                      </a:lnTo>
                      <a:lnTo>
                        <a:pt x="1653" y="172"/>
                      </a:lnTo>
                      <a:lnTo>
                        <a:pt x="1650" y="87"/>
                      </a:lnTo>
                      <a:lnTo>
                        <a:pt x="1644" y="0"/>
                      </a:lnTo>
                      <a:lnTo>
                        <a:pt x="1580" y="6"/>
                      </a:lnTo>
                      <a:lnTo>
                        <a:pt x="1587" y="89"/>
                      </a:lnTo>
                      <a:lnTo>
                        <a:pt x="1589" y="172"/>
                      </a:lnTo>
                      <a:lnTo>
                        <a:pt x="1586" y="254"/>
                      </a:lnTo>
                      <a:lnTo>
                        <a:pt x="1579" y="335"/>
                      </a:lnTo>
                      <a:lnTo>
                        <a:pt x="1568" y="416"/>
                      </a:lnTo>
                      <a:lnTo>
                        <a:pt x="1553" y="494"/>
                      </a:lnTo>
                      <a:lnTo>
                        <a:pt x="1533" y="571"/>
                      </a:lnTo>
                      <a:lnTo>
                        <a:pt x="1509" y="648"/>
                      </a:lnTo>
                      <a:lnTo>
                        <a:pt x="1482" y="721"/>
                      </a:lnTo>
                      <a:lnTo>
                        <a:pt x="1450" y="796"/>
                      </a:lnTo>
                      <a:lnTo>
                        <a:pt x="1415" y="868"/>
                      </a:lnTo>
                      <a:lnTo>
                        <a:pt x="1377" y="938"/>
                      </a:lnTo>
                      <a:lnTo>
                        <a:pt x="1335" y="1006"/>
                      </a:lnTo>
                      <a:lnTo>
                        <a:pt x="1289" y="1070"/>
                      </a:lnTo>
                      <a:lnTo>
                        <a:pt x="1241" y="1134"/>
                      </a:lnTo>
                      <a:lnTo>
                        <a:pt x="1188" y="1196"/>
                      </a:lnTo>
                      <a:lnTo>
                        <a:pt x="1132" y="1254"/>
                      </a:lnTo>
                      <a:lnTo>
                        <a:pt x="1074" y="1311"/>
                      </a:lnTo>
                      <a:lnTo>
                        <a:pt x="1013" y="1365"/>
                      </a:lnTo>
                      <a:lnTo>
                        <a:pt x="949" y="1417"/>
                      </a:lnTo>
                      <a:lnTo>
                        <a:pt x="883" y="1466"/>
                      </a:lnTo>
                      <a:lnTo>
                        <a:pt x="813" y="1511"/>
                      </a:lnTo>
                      <a:lnTo>
                        <a:pt x="741" y="1554"/>
                      </a:lnTo>
                      <a:lnTo>
                        <a:pt x="668" y="1592"/>
                      </a:lnTo>
                      <a:lnTo>
                        <a:pt x="591" y="1629"/>
                      </a:lnTo>
                      <a:lnTo>
                        <a:pt x="513" y="1661"/>
                      </a:lnTo>
                      <a:lnTo>
                        <a:pt x="431" y="1692"/>
                      </a:lnTo>
                      <a:lnTo>
                        <a:pt x="350" y="1717"/>
                      </a:lnTo>
                      <a:lnTo>
                        <a:pt x="265" y="1739"/>
                      </a:lnTo>
                      <a:lnTo>
                        <a:pt x="178" y="1757"/>
                      </a:lnTo>
                      <a:lnTo>
                        <a:pt x="91" y="1771"/>
                      </a:lnTo>
                      <a:lnTo>
                        <a:pt x="0" y="1781"/>
                      </a:lnTo>
                      <a:lnTo>
                        <a:pt x="0" y="1781"/>
                      </a:lnTo>
                      <a:lnTo>
                        <a:pt x="7" y="18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4451760" y="3433680"/>
                  <a:ext cx="294480" cy="281160"/>
                </a:xfrm>
                <a:custGeom>
                  <a:avLst/>
                  <a:gdLst/>
                  <a:ahLst/>
                  <a:rect l="l" t="t" r="r" b="b"/>
                  <a:pathLst>
                    <a:path w="1993" h="1523">
                      <a:moveTo>
                        <a:pt x="0" y="6"/>
                      </a:moveTo>
                      <a:lnTo>
                        <a:pt x="12" y="92"/>
                      </a:lnTo>
                      <a:lnTo>
                        <a:pt x="29" y="176"/>
                      </a:lnTo>
                      <a:lnTo>
                        <a:pt x="49" y="259"/>
                      </a:lnTo>
                      <a:lnTo>
                        <a:pt x="73" y="339"/>
                      </a:lnTo>
                      <a:lnTo>
                        <a:pt x="102" y="418"/>
                      </a:lnTo>
                      <a:lnTo>
                        <a:pt x="135" y="496"/>
                      </a:lnTo>
                      <a:lnTo>
                        <a:pt x="173" y="571"/>
                      </a:lnTo>
                      <a:lnTo>
                        <a:pt x="212" y="643"/>
                      </a:lnTo>
                      <a:lnTo>
                        <a:pt x="256" y="714"/>
                      </a:lnTo>
                      <a:lnTo>
                        <a:pt x="305" y="784"/>
                      </a:lnTo>
                      <a:lnTo>
                        <a:pt x="356" y="850"/>
                      </a:lnTo>
                      <a:lnTo>
                        <a:pt x="411" y="913"/>
                      </a:lnTo>
                      <a:lnTo>
                        <a:pt x="468" y="974"/>
                      </a:lnTo>
                      <a:lnTo>
                        <a:pt x="528" y="1032"/>
                      </a:lnTo>
                      <a:lnTo>
                        <a:pt x="591" y="1088"/>
                      </a:lnTo>
                      <a:lnTo>
                        <a:pt x="658" y="1141"/>
                      </a:lnTo>
                      <a:lnTo>
                        <a:pt x="727" y="1190"/>
                      </a:lnTo>
                      <a:lnTo>
                        <a:pt x="799" y="1237"/>
                      </a:lnTo>
                      <a:lnTo>
                        <a:pt x="873" y="1281"/>
                      </a:lnTo>
                      <a:lnTo>
                        <a:pt x="949" y="1321"/>
                      </a:lnTo>
                      <a:lnTo>
                        <a:pt x="1027" y="1357"/>
                      </a:lnTo>
                      <a:lnTo>
                        <a:pt x="1106" y="1392"/>
                      </a:lnTo>
                      <a:lnTo>
                        <a:pt x="1189" y="1421"/>
                      </a:lnTo>
                      <a:lnTo>
                        <a:pt x="1274" y="1448"/>
                      </a:lnTo>
                      <a:lnTo>
                        <a:pt x="1359" y="1470"/>
                      </a:lnTo>
                      <a:lnTo>
                        <a:pt x="1445" y="1489"/>
                      </a:lnTo>
                      <a:lnTo>
                        <a:pt x="1534" y="1503"/>
                      </a:lnTo>
                      <a:lnTo>
                        <a:pt x="1624" y="1515"/>
                      </a:lnTo>
                      <a:lnTo>
                        <a:pt x="1715" y="1521"/>
                      </a:lnTo>
                      <a:lnTo>
                        <a:pt x="1806" y="1523"/>
                      </a:lnTo>
                      <a:lnTo>
                        <a:pt x="1899" y="1522"/>
                      </a:lnTo>
                      <a:lnTo>
                        <a:pt x="1993" y="1516"/>
                      </a:lnTo>
                      <a:lnTo>
                        <a:pt x="1986" y="1457"/>
                      </a:lnTo>
                      <a:lnTo>
                        <a:pt x="1897" y="1464"/>
                      </a:lnTo>
                      <a:lnTo>
                        <a:pt x="1806" y="1465"/>
                      </a:lnTo>
                      <a:lnTo>
                        <a:pt x="1718" y="1463"/>
                      </a:lnTo>
                      <a:lnTo>
                        <a:pt x="1631" y="1456"/>
                      </a:lnTo>
                      <a:lnTo>
                        <a:pt x="1543" y="1445"/>
                      </a:lnTo>
                      <a:lnTo>
                        <a:pt x="1458" y="1432"/>
                      </a:lnTo>
                      <a:lnTo>
                        <a:pt x="1375" y="1414"/>
                      </a:lnTo>
                      <a:lnTo>
                        <a:pt x="1292" y="1392"/>
                      </a:lnTo>
                      <a:lnTo>
                        <a:pt x="1212" y="1367"/>
                      </a:lnTo>
                      <a:lnTo>
                        <a:pt x="1131" y="1337"/>
                      </a:lnTo>
                      <a:lnTo>
                        <a:pt x="1054" y="1305"/>
                      </a:lnTo>
                      <a:lnTo>
                        <a:pt x="979" y="1268"/>
                      </a:lnTo>
                      <a:lnTo>
                        <a:pt x="905" y="1231"/>
                      </a:lnTo>
                      <a:lnTo>
                        <a:pt x="835" y="1189"/>
                      </a:lnTo>
                      <a:lnTo>
                        <a:pt x="766" y="1144"/>
                      </a:lnTo>
                      <a:lnTo>
                        <a:pt x="699" y="1095"/>
                      </a:lnTo>
                      <a:lnTo>
                        <a:pt x="634" y="1044"/>
                      </a:lnTo>
                      <a:lnTo>
                        <a:pt x="573" y="991"/>
                      </a:lnTo>
                      <a:lnTo>
                        <a:pt x="516" y="934"/>
                      </a:lnTo>
                      <a:lnTo>
                        <a:pt x="459" y="876"/>
                      </a:lnTo>
                      <a:lnTo>
                        <a:pt x="406" y="814"/>
                      </a:lnTo>
                      <a:lnTo>
                        <a:pt x="357" y="750"/>
                      </a:lnTo>
                      <a:lnTo>
                        <a:pt x="311" y="685"/>
                      </a:lnTo>
                      <a:lnTo>
                        <a:pt x="269" y="616"/>
                      </a:lnTo>
                      <a:lnTo>
                        <a:pt x="229" y="546"/>
                      </a:lnTo>
                      <a:lnTo>
                        <a:pt x="194" y="473"/>
                      </a:lnTo>
                      <a:lnTo>
                        <a:pt x="161" y="397"/>
                      </a:lnTo>
                      <a:lnTo>
                        <a:pt x="134" y="322"/>
                      </a:lnTo>
                      <a:lnTo>
                        <a:pt x="110" y="244"/>
                      </a:lnTo>
                      <a:lnTo>
                        <a:pt x="90" y="164"/>
                      </a:lnTo>
                      <a:lnTo>
                        <a:pt x="75" y="83"/>
                      </a:lnTo>
                      <a:lnTo>
                        <a:pt x="64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977720" y="3106800"/>
                  <a:ext cx="30600" cy="312840"/>
                </a:xfrm>
                <a:custGeom>
                  <a:avLst/>
                  <a:gdLst/>
                  <a:ahLst/>
                  <a:rect l="l" t="t" r="r" b="b"/>
                  <a:pathLst>
                    <a:path w="197" h="1699">
                      <a:moveTo>
                        <a:pt x="165" y="2"/>
                      </a:moveTo>
                      <a:lnTo>
                        <a:pt x="134" y="0"/>
                      </a:lnTo>
                      <a:lnTo>
                        <a:pt x="0" y="1695"/>
                      </a:lnTo>
                      <a:lnTo>
                        <a:pt x="63" y="1699"/>
                      </a:lnTo>
                      <a:lnTo>
                        <a:pt x="197" y="4"/>
                      </a:lnTo>
                      <a:lnTo>
                        <a:pt x="16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5" name=""/>
              <p:cNvSpPr/>
              <p:nvPr/>
            </p:nvSpPr>
            <p:spPr>
              <a:xfrm>
                <a:off x="4336200" y="3206880"/>
                <a:ext cx="6652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000000"/>
                    </a:solidFill>
                    <a:latin typeface="Verdana"/>
                  </a:rPr>
                  <a:t>CER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6" name=""/>
          <p:cNvGrpSpPr/>
          <p:nvPr/>
        </p:nvGrpSpPr>
        <p:grpSpPr>
          <a:xfrm>
            <a:off x="1350720" y="933480"/>
            <a:ext cx="6281640" cy="5105160"/>
            <a:chOff x="1350720" y="933480"/>
            <a:chExt cx="6281640" cy="5105160"/>
          </a:xfrm>
        </p:grpSpPr>
        <p:sp>
          <p:nvSpPr>
            <p:cNvPr id="247" name=""/>
            <p:cNvSpPr/>
            <p:nvPr/>
          </p:nvSpPr>
          <p:spPr>
            <a:xfrm>
              <a:off x="1691640" y="933480"/>
              <a:ext cx="5712480" cy="5105160"/>
            </a:xfrm>
            <a:prstGeom prst="ellipse">
              <a:avLst/>
            </a:prstGeom>
            <a:noFill/>
            <a:ln w="38160">
              <a:solidFill>
                <a:srgbClr val="33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1350720" y="946800"/>
              <a:ext cx="6281640" cy="5043600"/>
              <a:chOff x="1350720" y="946800"/>
              <a:chExt cx="6281640" cy="5043600"/>
            </a:xfrm>
          </p:grpSpPr>
          <p:sp>
            <p:nvSpPr>
              <p:cNvPr id="249" name=""/>
              <p:cNvSpPr/>
              <p:nvPr/>
            </p:nvSpPr>
            <p:spPr>
              <a:xfrm>
                <a:off x="1350720" y="3312720"/>
                <a:ext cx="7538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Tier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713600" y="2127600"/>
                <a:ext cx="741960" cy="466920"/>
              </a:xfrm>
              <a:prstGeom prst="roundRect">
                <a:avLst>
                  <a:gd name="adj" fmla="val 16667"/>
                </a:avLst>
              </a:prstGeom>
              <a:solidFill>
                <a:srgbClr val="ccff99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Lab 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522480" y="1704240"/>
                <a:ext cx="741960" cy="466920"/>
              </a:xfrm>
              <a:prstGeom prst="roundRect">
                <a:avLst>
                  <a:gd name="adj" fmla="val 16667"/>
                </a:avLst>
              </a:prstGeom>
              <a:solidFill>
                <a:srgbClr val="ccff99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Uni 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389640" y="4665240"/>
                <a:ext cx="741960" cy="466560"/>
              </a:xfrm>
              <a:prstGeom prst="roundRect">
                <a:avLst>
                  <a:gd name="adj" fmla="val 16667"/>
                </a:avLst>
              </a:prstGeom>
              <a:solidFill>
                <a:srgbClr val="ccff99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Lab 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890400" y="3199680"/>
                <a:ext cx="741960" cy="466560"/>
              </a:xfrm>
              <a:prstGeom prst="roundRect">
                <a:avLst>
                  <a:gd name="adj" fmla="val 16667"/>
                </a:avLst>
              </a:prstGeom>
              <a:solidFill>
                <a:srgbClr val="ccff99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Uni 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803120" y="946800"/>
                <a:ext cx="741960" cy="466560"/>
              </a:xfrm>
              <a:prstGeom prst="roundRect">
                <a:avLst>
                  <a:gd name="adj" fmla="val 16667"/>
                </a:avLst>
              </a:prstGeom>
              <a:solidFill>
                <a:srgbClr val="ccff99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Lab 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824120" y="4529160"/>
                <a:ext cx="741960" cy="466560"/>
              </a:xfrm>
              <a:prstGeom prst="roundRect">
                <a:avLst>
                  <a:gd name="adj" fmla="val 16667"/>
                </a:avLst>
              </a:prstGeom>
              <a:solidFill>
                <a:srgbClr val="ccff99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Lab 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027400" y="5523840"/>
                <a:ext cx="742320" cy="466560"/>
              </a:xfrm>
              <a:prstGeom prst="roundRect">
                <a:avLst>
                  <a:gd name="adj" fmla="val 16667"/>
                </a:avLst>
              </a:prstGeom>
              <a:solidFill>
                <a:srgbClr val="ccff99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Uni 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995920" y="5397840"/>
                <a:ext cx="741960" cy="466920"/>
              </a:xfrm>
              <a:prstGeom prst="roundRect">
                <a:avLst>
                  <a:gd name="adj" fmla="val 16667"/>
                </a:avLst>
              </a:prstGeom>
              <a:solidFill>
                <a:srgbClr val="ccff99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Uni 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864880" y="990720"/>
                <a:ext cx="741960" cy="466560"/>
              </a:xfrm>
              <a:prstGeom prst="roundRect">
                <a:avLst>
                  <a:gd name="adj" fmla="val 16667"/>
                </a:avLst>
              </a:prstGeom>
              <a:solidFill>
                <a:srgbClr val="ccff99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Uni 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9" name=""/>
          <p:cNvGrpSpPr/>
          <p:nvPr/>
        </p:nvGrpSpPr>
        <p:grpSpPr>
          <a:xfrm>
            <a:off x="182160" y="477720"/>
            <a:ext cx="8202600" cy="6004080"/>
            <a:chOff x="182160" y="477720"/>
            <a:chExt cx="8202600" cy="6004080"/>
          </a:xfrm>
        </p:grpSpPr>
        <p:grpSp>
          <p:nvGrpSpPr>
            <p:cNvPr id="260" name=""/>
            <p:cNvGrpSpPr/>
            <p:nvPr/>
          </p:nvGrpSpPr>
          <p:grpSpPr>
            <a:xfrm>
              <a:off x="182160" y="477720"/>
              <a:ext cx="8202600" cy="6004080"/>
              <a:chOff x="182160" y="477720"/>
              <a:chExt cx="8202600" cy="6004080"/>
            </a:xfrm>
          </p:grpSpPr>
          <p:sp>
            <p:nvSpPr>
              <p:cNvPr id="261" name=""/>
              <p:cNvSpPr/>
              <p:nvPr/>
            </p:nvSpPr>
            <p:spPr>
              <a:xfrm>
                <a:off x="990720" y="477720"/>
                <a:ext cx="7394040" cy="6004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82160" y="3186000"/>
                <a:ext cx="1273320" cy="52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Physic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Departm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2349720" y="5676840"/>
              <a:ext cx="360360" cy="39204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62400" y="5187960"/>
              <a:ext cx="360360" cy="39204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075680" y="4361040"/>
              <a:ext cx="360360" cy="39024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-58320" y="4075200"/>
            <a:ext cx="2747160" cy="2782440"/>
            <a:chOff x="-58320" y="4075200"/>
            <a:chExt cx="2747160" cy="2782440"/>
          </a:xfrm>
        </p:grpSpPr>
        <p:pic>
          <p:nvPicPr>
            <p:cNvPr id="267" name="" descr=""/>
            <p:cNvPicPr/>
            <p:nvPr/>
          </p:nvPicPr>
          <p:blipFill>
            <a:blip r:embed="rId1"/>
            <a:stretch/>
          </p:blipFill>
          <p:spPr>
            <a:xfrm>
              <a:off x="36360" y="4672080"/>
              <a:ext cx="615240" cy="6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2"/>
            <a:stretch/>
          </p:blipFill>
          <p:spPr>
            <a:xfrm>
              <a:off x="804240" y="6000840"/>
              <a:ext cx="6138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-58320" y="4075200"/>
              <a:ext cx="918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Deskt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70" name=""/>
            <p:cNvGraphicFramePr/>
            <p:nvPr/>
          </p:nvGraphicFramePr>
          <p:xfrm rot="10800000">
            <a:off x="1751040" y="6025680"/>
            <a:ext cx="937800" cy="831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 rot="10800000">
                      <a:off x="1751040" y="6025680"/>
                      <a:ext cx="937800" cy="83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2" name=""/>
            <p:cNvGraphicFramePr/>
            <p:nvPr/>
          </p:nvGraphicFramePr>
          <p:xfrm>
            <a:off x="659160" y="4941720"/>
            <a:ext cx="445320" cy="984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59160" y="4941720"/>
                      <a:ext cx="445320" cy="98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74" name=""/>
          <p:cNvGrpSpPr/>
          <p:nvPr/>
        </p:nvGrpSpPr>
        <p:grpSpPr>
          <a:xfrm>
            <a:off x="2823480" y="1846440"/>
            <a:ext cx="3843720" cy="3011400"/>
            <a:chOff x="2823480" y="1846440"/>
            <a:chExt cx="3843720" cy="3011400"/>
          </a:xfrm>
        </p:grpSpPr>
        <p:sp>
          <p:nvSpPr>
            <p:cNvPr id="275" name=""/>
            <p:cNvSpPr/>
            <p:nvPr/>
          </p:nvSpPr>
          <p:spPr>
            <a:xfrm>
              <a:off x="3141720" y="2106720"/>
              <a:ext cx="2980080" cy="2655720"/>
            </a:xfrm>
            <a:prstGeom prst="ellipse">
              <a:avLst/>
            </a:prstGeom>
            <a:noFill/>
            <a:ln w="572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2823480" y="1846440"/>
              <a:ext cx="3843720" cy="3011400"/>
              <a:chOff x="2823480" y="1846440"/>
              <a:chExt cx="3843720" cy="3011400"/>
            </a:xfrm>
          </p:grpSpPr>
          <p:sp>
            <p:nvSpPr>
              <p:cNvPr id="277" name=""/>
              <p:cNvSpPr/>
              <p:nvPr/>
            </p:nvSpPr>
            <p:spPr>
              <a:xfrm>
                <a:off x="4959000" y="4206960"/>
                <a:ext cx="1196280" cy="62532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Comic Sans MS"/>
                  </a:rPr>
                  <a:t>German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2823480" y="1846440"/>
                <a:ext cx="3843720" cy="3011400"/>
                <a:chOff x="2823480" y="1846440"/>
                <a:chExt cx="3843720" cy="3011400"/>
              </a:xfrm>
            </p:grpSpPr>
            <p:grpSp>
              <p:nvGrpSpPr>
                <p:cNvPr id="279" name=""/>
                <p:cNvGrpSpPr/>
                <p:nvPr/>
              </p:nvGrpSpPr>
              <p:grpSpPr>
                <a:xfrm>
                  <a:off x="2823480" y="1846440"/>
                  <a:ext cx="3843720" cy="3011400"/>
                  <a:chOff x="2823480" y="1846440"/>
                  <a:chExt cx="3843720" cy="3011400"/>
                </a:xfrm>
              </p:grpSpPr>
              <p:grpSp>
                <p:nvGrpSpPr>
                  <p:cNvPr id="280" name=""/>
                  <p:cNvGrpSpPr/>
                  <p:nvPr/>
                </p:nvGrpSpPr>
                <p:grpSpPr>
                  <a:xfrm>
                    <a:off x="2823480" y="2082960"/>
                    <a:ext cx="3843720" cy="2774880"/>
                    <a:chOff x="2823480" y="2082960"/>
                    <a:chExt cx="3843720" cy="2774880"/>
                  </a:xfrm>
                </p:grpSpPr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2823480" y="3060720"/>
                      <a:ext cx="813240" cy="368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e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3058200" y="2351160"/>
                      <a:ext cx="1196280" cy="62532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rmiLa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5118840" y="2082960"/>
                      <a:ext cx="1196280" cy="62532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5470920" y="2779560"/>
                      <a:ext cx="1196280" cy="62568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2905560" y="3584520"/>
                      <a:ext cx="1196640" cy="62568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ta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3664080" y="4232160"/>
                      <a:ext cx="1196640" cy="62568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7" name=""/>
                  <p:cNvSpPr/>
                  <p:nvPr/>
                </p:nvSpPr>
                <p:spPr>
                  <a:xfrm>
                    <a:off x="3901680" y="1846440"/>
                    <a:ext cx="1196280" cy="625320"/>
                  </a:xfrm>
                  <a:prstGeom prst="ellipse">
                    <a:avLst/>
                  </a:prstGeom>
                  <a:solidFill>
                    <a:srgbClr val="ff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USA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Brookhaven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5372640" y="3537000"/>
                  <a:ext cx="1196280" cy="62532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Comic Sans MS"/>
                    </a:rPr>
                    <a:t>………</a:t>
                  </a:r>
                  <a:r>
                    <a:rPr b="1" lang="en-GB" sz="1400" spc="-1" strike="noStrike">
                      <a:solidFill>
                        <a:srgbClr val="000000"/>
                      </a:solidFill>
                      <a:latin typeface="Comic Sans MS"/>
                    </a:rPr>
                    <a:t>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9" name=""/>
          <p:cNvSpPr/>
          <p:nvPr/>
        </p:nvSpPr>
        <p:spPr>
          <a:xfrm>
            <a:off x="2625840" y="3048120"/>
            <a:ext cx="1508040" cy="627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The LHC Computing Cent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LHC Computing Grid Projec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36120" y="1486080"/>
            <a:ext cx="771372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hase 1 Goals –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pare the </a:t>
            </a:r>
            <a:r>
              <a:rPr b="0" lang="en-US" sz="1800" spc="-1" strike="noStrike">
                <a:solidFill>
                  <a:srgbClr val="996633"/>
                </a:solidFill>
                <a:latin typeface="Tahoma"/>
              </a:rPr>
              <a:t>LHC computing environ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the </a:t>
            </a:r>
            <a:r>
              <a:rPr b="0" lang="en-GB" sz="1800" spc="-1" strike="noStrike">
                <a:solidFill>
                  <a:srgbClr val="0000ff"/>
                </a:solidFill>
                <a:latin typeface="Tahoma"/>
                <a:ea typeface="Times New Roman"/>
              </a:rPr>
              <a:t>common tools and infrastructure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the physics application soft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stablish the technology for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fabric, network and gri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anag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y, borrow, or buil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develop </a:t>
            </a:r>
            <a:r>
              <a:rPr b="0" lang="en-GB" sz="1800" spc="-1" strike="noStrike">
                <a:solidFill>
                  <a:srgbClr val="0000ff"/>
                </a:solidFill>
                <a:latin typeface="Tahoma"/>
                <a:ea typeface="Times New Roman"/>
              </a:rPr>
              <a:t>models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building the </a:t>
            </a:r>
            <a:r>
              <a:rPr b="0" lang="en-GB" sz="1800" spc="-1" strike="noStrike">
                <a:solidFill>
                  <a:srgbClr val="0000ff"/>
                </a:solidFill>
                <a:latin typeface="Tahoma"/>
                <a:ea typeface="Times New Roman"/>
              </a:rPr>
              <a:t>Phase 2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Gr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  <a:ea typeface="Times New Roman"/>
              </a:rPr>
              <a:t>validate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technology and models by building progressively more complex </a:t>
            </a:r>
            <a:r>
              <a:rPr b="0" lang="en-GB" sz="1800" spc="-1" strike="noStrike">
                <a:solidFill>
                  <a:srgbClr val="0000ff"/>
                </a:solidFill>
                <a:latin typeface="Tahoma"/>
                <a:ea typeface="Times New Roman"/>
              </a:rPr>
              <a:t>Grid prototyp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e a series of </a:t>
            </a:r>
            <a:r>
              <a:rPr b="0" lang="en-GB" sz="1800" spc="-1" strike="noStrike">
                <a:solidFill>
                  <a:srgbClr val="0000ff"/>
                </a:solidFill>
                <a:latin typeface="Tahoma"/>
                <a:ea typeface="Times New Roman"/>
              </a:rPr>
              <a:t>data challenges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the experi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ain </a:t>
            </a:r>
            <a:r>
              <a:rPr b="0" lang="en-GB" sz="1800" spc="-1" strike="noStrike">
                <a:solidFill>
                  <a:srgbClr val="0000ff"/>
                </a:solidFill>
                <a:latin typeface="Tahoma"/>
                <a:ea typeface="Times New Roman"/>
              </a:rPr>
              <a:t>reasonable opportunities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the re-use of the results of the project </a:t>
            </a:r>
            <a:r>
              <a:rPr b="0" lang="en-GB" sz="1800" spc="-1" strike="noStrike">
                <a:solidFill>
                  <a:srgbClr val="0000ff"/>
                </a:solidFill>
                <a:latin typeface="Tahoma"/>
                <a:ea typeface="Times New Roman"/>
              </a:rPr>
              <a:t>in other fiel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ploy a </a:t>
            </a:r>
            <a:r>
              <a:rPr b="0" lang="en-US" sz="1800" spc="-1" strike="noStrike">
                <a:solidFill>
                  <a:srgbClr val="996633"/>
                </a:solidFill>
                <a:latin typeface="Tahoma"/>
              </a:rPr>
              <a:t>50% mode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1800" spc="-1" strike="noStrike">
                <a:solidFill>
                  <a:srgbClr val="996633"/>
                </a:solidFill>
                <a:latin typeface="Tahoma"/>
              </a:rPr>
              <a:t> production GRI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ncluding the committed LHC Regional Cent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e a Technical Design Report for the full LHC Computing Grid to be built in Phase 2 of the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 50% of the complexity of one of the LHC experi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 Black"/>
              </a:rPr>
              <a:t>Areas of wor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lications Support &amp; Coordin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Tahoma"/>
                <a:ea typeface="Arial Unicode MS"/>
              </a:rPr>
              <a:t>Application Software Infrastructure – libraries, tool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Tahoma"/>
                <a:ea typeface="Arial Unicode MS"/>
              </a:rPr>
              <a:t>Object persistency, data management tools, data model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Tahoma"/>
                <a:ea typeface="Arial Unicode MS"/>
              </a:rPr>
              <a:t>Common Frameworks – Simulation, Analysis, .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Tahoma"/>
                <a:ea typeface="Arial Unicode MS"/>
              </a:rPr>
              <a:t>Adaptation of Physics Applications to Grid environm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Tahoma"/>
                <a:ea typeface="Arial Unicode MS"/>
              </a:rPr>
              <a:t>Grid tools, Portal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puting Syste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Tahoma"/>
                <a:ea typeface="Arial Unicode MS"/>
              </a:rPr>
              <a:t>Physics Data Managem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Tahoma"/>
                <a:ea typeface="Arial Unicode MS"/>
              </a:rPr>
              <a:t>Fabric Managem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Tahoma"/>
                <a:ea typeface="Arial Unicode MS"/>
              </a:rPr>
              <a:t>Physics Data Stor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Tahoma"/>
                <a:ea typeface="Arial Unicode MS"/>
              </a:rPr>
              <a:t>LAN Managem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Tahoma"/>
                <a:ea typeface="Arial Unicode MS"/>
              </a:rPr>
              <a:t>Wide-area Network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Tahoma"/>
                <a:ea typeface="Arial Unicode MS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Tahoma"/>
                <a:ea typeface="Arial Unicode MS"/>
              </a:rPr>
              <a:t>Internet Servic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2708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rid Technolog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Tahoma"/>
                <a:ea typeface="Arial Unicode MS"/>
              </a:rPr>
              <a:t>Grid middlewa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Tahoma"/>
                <a:ea typeface="Arial Unicode MS"/>
              </a:rPr>
              <a:t>Schedul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Tahoma"/>
                <a:ea typeface="Arial Unicode MS"/>
              </a:rPr>
              <a:t>Data Managem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Tahoma"/>
                <a:ea typeface="Arial Unicode MS"/>
              </a:rPr>
              <a:t>Monitor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  <a:ea typeface="Arial Unicode MS"/>
              </a:rPr>
              <a:t>Error Detection &amp; Recove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  <a:ea typeface="Arial Unicode MS"/>
              </a:rPr>
              <a:t>Standard application services lay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  <a:ea typeface="Arial Unicode MS"/>
              </a:rPr>
              <a:t>Inter-project compatibilit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rid Deploym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  <a:ea typeface="Arial Unicode MS"/>
              </a:rPr>
              <a:t>Data Challeng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  <a:ea typeface="Arial Unicode MS"/>
              </a:rPr>
              <a:t>Grid Operation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  <a:ea typeface="Arial Unicode MS"/>
              </a:rPr>
              <a:t>Integration of the Grid &amp; Physics Environmen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  <a:ea typeface="Arial Unicode MS"/>
              </a:rPr>
              <a:t>Network Plann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  <a:ea typeface="Arial Unicode MS"/>
              </a:rPr>
              <a:t>Regional Centre Coordin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  <a:ea typeface="Arial Unicode MS"/>
              </a:rPr>
              <a:t>Security and access polic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 Black"/>
              </a:rPr>
              <a:t>Status du projet LC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uvé par le conseil du CERN Sept 20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soins de personnel couverts: recrutements en cours. En France, 5 Volontaires internationaux en place au CERN, 3 ingénieurs des labos de l ’IN2P3, 2 chercheurs en informati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0% du budget matériel dispon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tilisation banc test DATAGRID en 20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éparation 6ème PCR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rojet Intégré E-science: rédaction Expression d ’Intérêt, datae limite 7 Ju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obilisation CNRS en bonne voi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utres actions européenn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Action intégrée R&amp;D accélérate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Faits saillants 20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ombinaison finale des résultats de LEP attendue avec impat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Résultats de BABAR avec un potentiel de découverte significati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(re)Démarrage H1/D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es premiers tests avec  DATAGR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onstruction des expériences LHC: de la production à la préparation de la physi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tratégie pour le futur collisionneu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emiers résultats sur sin2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rhoeta_s2a_scpipi_babar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3324240" cy="3114720"/>
          </a:xfrm>
          <a:prstGeom prst="rect">
            <a:avLst/>
          </a:prstGeom>
          <a:ln w="0">
            <a:noFill/>
          </a:ln>
        </p:spPr>
      </p:pic>
      <p:pic>
        <p:nvPicPr>
          <p:cNvPr id="96" name="rhoeta_s2a_scpipi_belle_zoom2" descr=""/>
          <p:cNvPicPr/>
          <p:nvPr/>
        </p:nvPicPr>
        <p:blipFill>
          <a:blip r:embed="rId2"/>
          <a:stretch/>
        </p:blipFill>
        <p:spPr>
          <a:xfrm>
            <a:off x="4876920" y="1981080"/>
            <a:ext cx="33433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a concurrence et les projets futu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BAB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umi pic 4.6 10**3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umi/jour 303 pb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umi/mois 6,66 fb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otal Intégré 82 fb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2004:Upgrade10**34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10**35 ou 10**36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43400" y="1885680"/>
            <a:ext cx="42926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BEL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umi pic 7,25 10**3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umi/jour 377 pb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umi/mois 8 fb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otal Intégré 70 fb-1(?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Upgrade 10**35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Upgrade 10**3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 Black"/>
              </a:rPr>
              <a:t>(Re)Démarrage D0-H1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Expérience D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enforcement significatif des équipes: LAL, LPNHE, ISN, CPPM </a:t>
            </a:r>
            <a:r>
              <a:rPr b="0" lang="fr-FR" sz="2000" spc="-1" strike="noStrike">
                <a:solidFill>
                  <a:srgbClr val="808000"/>
                </a:solidFill>
                <a:latin typeface="Tahoma"/>
              </a:rPr>
              <a:t>Lyon, Strasbour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edémarrage satisfaisant de l ’expérience mais concurrence forte de CDF et luminosité promise pas encore au rendez-vo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Séjour sur plac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Synergie avec le LHC 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H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Implication forte dans la mesure des faisceau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uminomètre, polarimètre (soutenu également par ACI jeunes ministère et DES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Maintien d ’un potentiel suffis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TLAS et CM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Problèmes de démarrage de la production maintenant résolus pour la plup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En 2000, problèmes critiques 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ATL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électrodes du calorimètre de l ’argon liqui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Toroid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Electronique pix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CMS : calorimètre (cristaux, mécanique, APD, chip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En 2001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Bientôt 50% des modules du calorimètre  Lar ATLAS réalisés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Premier endcap cryostat ATLAS livré au CER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Préproduction tracker CMS (M200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blèmes techniques résidue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lectronique calorimètre C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FPP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iens Opt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Rendement chip pixels ATLAS 0.25 micr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es problèmes financie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e CER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Crise majeure au CERN depuis sept 20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850 MCHF à trouver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Machine LH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Expériences LHC (56 MCHF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Calcul LHC (120 MCHF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Plan du CERN : </a:t>
            </a: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présentation au conseil en Jui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ahoma"/>
              </a:rPr>
              <a:t>Démarrage LHC avril 2007 </a:t>
            </a:r>
            <a:r>
              <a:rPr b="1" lang="fr-FR" sz="1600" spc="-1" strike="noStrike" u="sng">
                <a:solidFill>
                  <a:srgbClr val="990000"/>
                </a:solidFill>
                <a:uFillTx/>
                <a:latin typeface="Tahoma"/>
              </a:rPr>
              <a:t>(raisons technique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500 MCHF économies inter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170 MCHF ‘ industrial services 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60 MCHF calcu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Arrêt SPS 2005 et -30% 2003/20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Arrêt CERN Opéra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Réduction R&amp;D accélérateu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2 ans financement supplémentair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evue externe Comité Aymar: rapport en Ju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22:11:12Z</dcterms:created>
  <dc:creator>Wormser</dc:creator>
  <dc:description/>
  <dc:language>en-US</dc:language>
  <cp:lastModifiedBy>WORMSERG</cp:lastModifiedBy>
  <dcterms:modified xsi:type="dcterms:W3CDTF">2002-05-06T08:52:25Z</dcterms:modified>
  <cp:revision>8</cp:revision>
  <dc:subject/>
  <dc:title>La physique des particules à l ’IN2P3</dc:title>
</cp:coreProperties>
</file>