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4CE-8645-4A68-A192-F3287B80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6A1-8C47-43B2-BA1F-57E7C63A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676-EB51-453A-A668-802F35A6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408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6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408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6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C59-D263-434C-B79C-F34CA1B6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434D-55F1-4346-8739-53775261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B9D-8C60-46D0-94C5-00EF469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776-E681-4228-89D6-EF906EF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050-5A02-4ED3-B1C5-D9B7F32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7F7-7DB3-4754-B51E-2F56149F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3B5-5212-4F8A-8920-E92FC35D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FBF-0BFB-46EB-8025-FEDEB65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5D5-5530-4C64-9B7E-420F1A3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3FC-4F10-46C8-8903-72AE42A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5F85-2822-4EFF-9B92-C148015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6E11-B51E-44E0-94F7-48DA922F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65A5-15E7-4CB9-920B-3CC86820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92A-2FA1-4AD8-834A-19078059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658-E01A-469A-A3F0-E3EF47A1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74C-1031-446B-9B5C-1B6BA656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A15-957B-4194-A3CE-25B8041B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00A-AF09-4C3F-BBCE-D0D321B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4BF-769A-41A4-B9C7-53B340B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1E9-FBD7-40C8-87C8-C8866F7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B54-DEA3-4376-8E27-1670C36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e574e"/>
                </a:solidFill>
                <a:latin typeface="Arial"/>
              </a:rPr>
              <a:t>Daniel.Guerreau - Conseil Scientifique de Département - 6/5/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A946-5B30-4601-9FF5-2BBE41B537CE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222960"/>
            <a:ext cx="1219320" cy="63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48720" y="6240600"/>
            <a:ext cx="12906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5D13-FBD4-461E-B43D-9FC8CEE0D737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8483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ACTIVITÉS INTERDISCIPLINAI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33cc"/>
                </a:solidFill>
                <a:uFillTx/>
                <a:latin typeface="Arial Black"/>
              </a:rPr>
              <a:t>PROGRAMMES INTERDISCIPLINAIRES DU CN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PACE:</a:t>
            </a: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Aval du cycle électronuclé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(physique nucléaire et radiochimi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ENERGIE:</a:t>
            </a: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solutions innovantes pour l ’énergie nuclé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IMAGERIE DU PETIT ANIM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Et…</a:t>
            </a: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Exobiologie, mesures de basse activité, faibles doses, SMA, matériaux,agrégats…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(Physique théoriqu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787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58680" y="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niel GUERR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 Black"/>
              </a:rPr>
              <a:t>Mesures de basse Radioactivité</a:t>
            </a:r>
            <a:br>
              <a:rPr sz="34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lermont, Grenoble, Nantes, Orsay, Strasbourg, Modane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8108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simé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ses radioactivités dans l ’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ochimie - datation - vol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veillance de l’atmosph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MART (Subatech), RAMSES (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143000"/>
            <a:ext cx="89344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3320" y="650700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udition Office Par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9000" y="65070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n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8720" y="6508800"/>
            <a:ext cx="127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3 Septembr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91520" y="6411960"/>
            <a:ext cx="1395360" cy="2682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527040" y="1084320"/>
            <a:ext cx="8047800" cy="4965480"/>
            <a:chOff x="527040" y="1084320"/>
            <a:chExt cx="8047800" cy="49654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746280" y="3776760"/>
              <a:ext cx="2369880" cy="19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396120" y="3854520"/>
              <a:ext cx="191592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362400" y="3664080"/>
              <a:ext cx="275724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614680" y="1089000"/>
              <a:ext cx="3927240" cy="14050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04960" y="1084320"/>
              <a:ext cx="3942000" cy="141444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8160" y="1455840"/>
              <a:ext cx="3183120" cy="625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8800" y="1447920"/>
              <a:ext cx="3198960" cy="637920"/>
            </a:xfrm>
            <a:prstGeom prst="rect">
              <a:avLst/>
            </a:prstGeom>
            <a:noFill/>
            <a:ln w="64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8880" y="153828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95680" y="15382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65520" y="1538280"/>
              <a:ext cx="56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que 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2280" y="153828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1360" y="15382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3200" y="153828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9640" y="1538280"/>
              <a:ext cx="15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50760" y="1538280"/>
              <a:ext cx="17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8160" y="153828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tiè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7200" y="153828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46640" y="15382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85240" y="15382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76320" y="153828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n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5640" y="153828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96440" y="153828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é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82120" y="175752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98920" y="1757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71280" y="1757520"/>
              <a:ext cx="44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qu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4280" y="1757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7680" y="1757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6880" y="1757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5560" y="1757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21160" y="175752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hi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5920" y="1757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7800" y="1757520"/>
              <a:ext cx="27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1757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47000" y="175752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55800" y="1757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72440" y="1757520"/>
              <a:ext cx="30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tér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86000" y="1757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82120" y="175752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u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45080" y="1830240"/>
              <a:ext cx="3009960" cy="1278000"/>
            </a:xfrm>
            <a:custGeom>
              <a:avLst/>
              <a:gdLst/>
              <a:ahLst/>
              <a:rect l="l" t="t" r="r" b="b"/>
              <a:pathLst>
                <a:path w="1896" h="805">
                  <a:moveTo>
                    <a:pt x="946" y="0"/>
                  </a:moveTo>
                  <a:lnTo>
                    <a:pt x="848" y="3"/>
                  </a:lnTo>
                  <a:lnTo>
                    <a:pt x="757" y="9"/>
                  </a:lnTo>
                  <a:lnTo>
                    <a:pt x="665" y="18"/>
                  </a:lnTo>
                  <a:lnTo>
                    <a:pt x="577" y="32"/>
                  </a:lnTo>
                  <a:lnTo>
                    <a:pt x="495" y="50"/>
                  </a:lnTo>
                  <a:lnTo>
                    <a:pt x="416" y="71"/>
                  </a:lnTo>
                  <a:lnTo>
                    <a:pt x="344" y="94"/>
                  </a:lnTo>
                  <a:lnTo>
                    <a:pt x="276" y="120"/>
                  </a:lnTo>
                  <a:lnTo>
                    <a:pt x="245" y="133"/>
                  </a:lnTo>
                  <a:lnTo>
                    <a:pt x="215" y="149"/>
                  </a:lnTo>
                  <a:lnTo>
                    <a:pt x="186" y="164"/>
                  </a:lnTo>
                  <a:lnTo>
                    <a:pt x="161" y="180"/>
                  </a:lnTo>
                  <a:lnTo>
                    <a:pt x="137" y="197"/>
                  </a:lnTo>
                  <a:lnTo>
                    <a:pt x="114" y="213"/>
                  </a:lnTo>
                  <a:lnTo>
                    <a:pt x="92" y="231"/>
                  </a:lnTo>
                  <a:lnTo>
                    <a:pt x="73" y="249"/>
                  </a:lnTo>
                  <a:lnTo>
                    <a:pt x="57" y="266"/>
                  </a:lnTo>
                  <a:lnTo>
                    <a:pt x="41" y="286"/>
                  </a:lnTo>
                  <a:lnTo>
                    <a:pt x="30" y="306"/>
                  </a:lnTo>
                  <a:lnTo>
                    <a:pt x="18" y="325"/>
                  </a:lnTo>
                  <a:lnTo>
                    <a:pt x="10" y="345"/>
                  </a:lnTo>
                  <a:lnTo>
                    <a:pt x="4" y="366"/>
                  </a:lnTo>
                  <a:lnTo>
                    <a:pt x="0" y="385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4" y="445"/>
                  </a:lnTo>
                  <a:lnTo>
                    <a:pt x="10" y="467"/>
                  </a:lnTo>
                  <a:lnTo>
                    <a:pt x="20" y="486"/>
                  </a:lnTo>
                  <a:lnTo>
                    <a:pt x="30" y="506"/>
                  </a:lnTo>
                  <a:lnTo>
                    <a:pt x="43" y="525"/>
                  </a:lnTo>
                  <a:lnTo>
                    <a:pt x="57" y="543"/>
                  </a:lnTo>
                  <a:lnTo>
                    <a:pt x="75" y="561"/>
                  </a:lnTo>
                  <a:lnTo>
                    <a:pt x="94" y="580"/>
                  </a:lnTo>
                  <a:lnTo>
                    <a:pt x="114" y="597"/>
                  </a:lnTo>
                  <a:lnTo>
                    <a:pt x="137" y="613"/>
                  </a:lnTo>
                  <a:lnTo>
                    <a:pt x="162" y="629"/>
                  </a:lnTo>
                  <a:lnTo>
                    <a:pt x="190" y="646"/>
                  </a:lnTo>
                  <a:lnTo>
                    <a:pt x="217" y="660"/>
                  </a:lnTo>
                  <a:lnTo>
                    <a:pt x="248" y="675"/>
                  </a:lnTo>
                  <a:lnTo>
                    <a:pt x="280" y="688"/>
                  </a:lnTo>
                  <a:lnTo>
                    <a:pt x="346" y="714"/>
                  </a:lnTo>
                  <a:lnTo>
                    <a:pt x="418" y="738"/>
                  </a:lnTo>
                  <a:lnTo>
                    <a:pt x="499" y="758"/>
                  </a:lnTo>
                  <a:lnTo>
                    <a:pt x="581" y="774"/>
                  </a:lnTo>
                  <a:lnTo>
                    <a:pt x="669" y="787"/>
                  </a:lnTo>
                  <a:lnTo>
                    <a:pt x="758" y="797"/>
                  </a:lnTo>
                  <a:lnTo>
                    <a:pt x="852" y="803"/>
                  </a:lnTo>
                  <a:lnTo>
                    <a:pt x="950" y="805"/>
                  </a:lnTo>
                  <a:lnTo>
                    <a:pt x="1048" y="802"/>
                  </a:lnTo>
                  <a:lnTo>
                    <a:pt x="1141" y="795"/>
                  </a:lnTo>
                  <a:lnTo>
                    <a:pt x="1231" y="787"/>
                  </a:lnTo>
                  <a:lnTo>
                    <a:pt x="1319" y="772"/>
                  </a:lnTo>
                  <a:lnTo>
                    <a:pt x="1401" y="755"/>
                  </a:lnTo>
                  <a:lnTo>
                    <a:pt x="1480" y="733"/>
                  </a:lnTo>
                  <a:lnTo>
                    <a:pt x="1554" y="711"/>
                  </a:lnTo>
                  <a:lnTo>
                    <a:pt x="1620" y="685"/>
                  </a:lnTo>
                  <a:lnTo>
                    <a:pt x="1651" y="672"/>
                  </a:lnTo>
                  <a:lnTo>
                    <a:pt x="1681" y="655"/>
                  </a:lnTo>
                  <a:lnTo>
                    <a:pt x="1708" y="641"/>
                  </a:lnTo>
                  <a:lnTo>
                    <a:pt x="1735" y="626"/>
                  </a:lnTo>
                  <a:lnTo>
                    <a:pt x="1759" y="608"/>
                  </a:lnTo>
                  <a:lnTo>
                    <a:pt x="1782" y="592"/>
                  </a:lnTo>
                  <a:lnTo>
                    <a:pt x="1804" y="574"/>
                  </a:lnTo>
                  <a:lnTo>
                    <a:pt x="1821" y="556"/>
                  </a:lnTo>
                  <a:lnTo>
                    <a:pt x="1839" y="538"/>
                  </a:lnTo>
                  <a:lnTo>
                    <a:pt x="1853" y="520"/>
                  </a:lnTo>
                  <a:lnTo>
                    <a:pt x="1866" y="499"/>
                  </a:lnTo>
                  <a:lnTo>
                    <a:pt x="1878" y="480"/>
                  </a:lnTo>
                  <a:lnTo>
                    <a:pt x="1886" y="460"/>
                  </a:lnTo>
                  <a:lnTo>
                    <a:pt x="1892" y="441"/>
                  </a:lnTo>
                  <a:lnTo>
                    <a:pt x="1894" y="419"/>
                  </a:lnTo>
                  <a:lnTo>
                    <a:pt x="1896" y="400"/>
                  </a:lnTo>
                  <a:lnTo>
                    <a:pt x="1894" y="379"/>
                  </a:lnTo>
                  <a:lnTo>
                    <a:pt x="1892" y="359"/>
                  </a:lnTo>
                  <a:lnTo>
                    <a:pt x="1886" y="338"/>
                  </a:lnTo>
                  <a:lnTo>
                    <a:pt x="1876" y="319"/>
                  </a:lnTo>
                  <a:lnTo>
                    <a:pt x="1866" y="299"/>
                  </a:lnTo>
                  <a:lnTo>
                    <a:pt x="1853" y="280"/>
                  </a:lnTo>
                  <a:lnTo>
                    <a:pt x="1837" y="260"/>
                  </a:lnTo>
                  <a:lnTo>
                    <a:pt x="1821" y="244"/>
                  </a:lnTo>
                  <a:lnTo>
                    <a:pt x="1802" y="226"/>
                  </a:lnTo>
                  <a:lnTo>
                    <a:pt x="1780" y="208"/>
                  </a:lnTo>
                  <a:lnTo>
                    <a:pt x="1757" y="192"/>
                  </a:lnTo>
                  <a:lnTo>
                    <a:pt x="1732" y="175"/>
                  </a:lnTo>
                  <a:lnTo>
                    <a:pt x="1706" y="159"/>
                  </a:lnTo>
                  <a:lnTo>
                    <a:pt x="1679" y="144"/>
                  </a:lnTo>
                  <a:lnTo>
                    <a:pt x="1650" y="130"/>
                  </a:lnTo>
                  <a:lnTo>
                    <a:pt x="1618" y="115"/>
                  </a:lnTo>
                  <a:lnTo>
                    <a:pt x="1550" y="91"/>
                  </a:lnTo>
                  <a:lnTo>
                    <a:pt x="1476" y="66"/>
                  </a:lnTo>
                  <a:lnTo>
                    <a:pt x="1397" y="47"/>
                  </a:lnTo>
                  <a:lnTo>
                    <a:pt x="1315" y="31"/>
                  </a:lnTo>
                  <a:lnTo>
                    <a:pt x="1227" y="18"/>
                  </a:lnTo>
                  <a:lnTo>
                    <a:pt x="1138" y="8"/>
                  </a:lnTo>
                  <a:lnTo>
                    <a:pt x="1044" y="1"/>
                  </a:lnTo>
                  <a:lnTo>
                    <a:pt x="946" y="0"/>
                  </a:lnTo>
                  <a:lnTo>
                    <a:pt x="946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50160" y="2239920"/>
              <a:ext cx="1361880" cy="49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0080" y="2328840"/>
              <a:ext cx="11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24200" y="2328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14200" y="2328840"/>
              <a:ext cx="28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81680" y="232884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89680" y="2328840"/>
              <a:ext cx="16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49520" y="232884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90200" y="232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87760" y="232884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5760" y="2328840"/>
              <a:ext cx="15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58680" y="25462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69560" y="2546280"/>
              <a:ext cx="23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89160" y="254628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43160" y="2546280"/>
              <a:ext cx="14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82840" y="254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6160" y="254628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t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15120" y="254628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20600" y="25462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1830240"/>
              <a:ext cx="3036960" cy="1278000"/>
            </a:xfrm>
            <a:custGeom>
              <a:avLst/>
              <a:gdLst/>
              <a:ahLst/>
              <a:rect l="l" t="t" r="r" b="b"/>
              <a:pathLst>
                <a:path w="1913" h="805">
                  <a:moveTo>
                    <a:pt x="951" y="0"/>
                  </a:moveTo>
                  <a:lnTo>
                    <a:pt x="854" y="3"/>
                  </a:lnTo>
                  <a:lnTo>
                    <a:pt x="758" y="11"/>
                  </a:lnTo>
                  <a:lnTo>
                    <a:pt x="666" y="21"/>
                  </a:lnTo>
                  <a:lnTo>
                    <a:pt x="578" y="36"/>
                  </a:lnTo>
                  <a:lnTo>
                    <a:pt x="494" y="53"/>
                  </a:lnTo>
                  <a:lnTo>
                    <a:pt x="416" y="75"/>
                  </a:lnTo>
                  <a:lnTo>
                    <a:pt x="342" y="99"/>
                  </a:lnTo>
                  <a:lnTo>
                    <a:pt x="275" y="125"/>
                  </a:lnTo>
                  <a:lnTo>
                    <a:pt x="244" y="138"/>
                  </a:lnTo>
                  <a:lnTo>
                    <a:pt x="213" y="154"/>
                  </a:lnTo>
                  <a:lnTo>
                    <a:pt x="187" y="169"/>
                  </a:lnTo>
                  <a:lnTo>
                    <a:pt x="160" y="185"/>
                  </a:lnTo>
                  <a:lnTo>
                    <a:pt x="134" y="201"/>
                  </a:lnTo>
                  <a:lnTo>
                    <a:pt x="113" y="219"/>
                  </a:lnTo>
                  <a:lnTo>
                    <a:pt x="91" y="237"/>
                  </a:lnTo>
                  <a:lnTo>
                    <a:pt x="72" y="255"/>
                  </a:lnTo>
                  <a:lnTo>
                    <a:pt x="56" y="273"/>
                  </a:lnTo>
                  <a:lnTo>
                    <a:pt x="41" y="293"/>
                  </a:lnTo>
                  <a:lnTo>
                    <a:pt x="27" y="312"/>
                  </a:lnTo>
                  <a:lnTo>
                    <a:pt x="17" y="332"/>
                  </a:lnTo>
                  <a:lnTo>
                    <a:pt x="9" y="351"/>
                  </a:lnTo>
                  <a:lnTo>
                    <a:pt x="2" y="372"/>
                  </a:lnTo>
                  <a:lnTo>
                    <a:pt x="0" y="392"/>
                  </a:lnTo>
                  <a:lnTo>
                    <a:pt x="0" y="413"/>
                  </a:lnTo>
                  <a:lnTo>
                    <a:pt x="2" y="432"/>
                  </a:lnTo>
                  <a:lnTo>
                    <a:pt x="3" y="452"/>
                  </a:lnTo>
                  <a:lnTo>
                    <a:pt x="9" y="473"/>
                  </a:lnTo>
                  <a:lnTo>
                    <a:pt x="19" y="493"/>
                  </a:lnTo>
                  <a:lnTo>
                    <a:pt x="31" y="512"/>
                  </a:lnTo>
                  <a:lnTo>
                    <a:pt x="43" y="532"/>
                  </a:lnTo>
                  <a:lnTo>
                    <a:pt x="58" y="550"/>
                  </a:lnTo>
                  <a:lnTo>
                    <a:pt x="76" y="567"/>
                  </a:lnTo>
                  <a:lnTo>
                    <a:pt x="97" y="587"/>
                  </a:lnTo>
                  <a:lnTo>
                    <a:pt x="117" y="603"/>
                  </a:lnTo>
                  <a:lnTo>
                    <a:pt x="140" y="620"/>
                  </a:lnTo>
                  <a:lnTo>
                    <a:pt x="166" y="636"/>
                  </a:lnTo>
                  <a:lnTo>
                    <a:pt x="193" y="652"/>
                  </a:lnTo>
                  <a:lnTo>
                    <a:pt x="220" y="667"/>
                  </a:lnTo>
                  <a:lnTo>
                    <a:pt x="252" y="680"/>
                  </a:lnTo>
                  <a:lnTo>
                    <a:pt x="285" y="693"/>
                  </a:lnTo>
                  <a:lnTo>
                    <a:pt x="351" y="720"/>
                  </a:lnTo>
                  <a:lnTo>
                    <a:pt x="426" y="742"/>
                  </a:lnTo>
                  <a:lnTo>
                    <a:pt x="506" y="759"/>
                  </a:lnTo>
                  <a:lnTo>
                    <a:pt x="590" y="777"/>
                  </a:lnTo>
                  <a:lnTo>
                    <a:pt x="678" y="789"/>
                  </a:lnTo>
                  <a:lnTo>
                    <a:pt x="768" y="798"/>
                  </a:lnTo>
                  <a:lnTo>
                    <a:pt x="865" y="803"/>
                  </a:lnTo>
                  <a:lnTo>
                    <a:pt x="961" y="805"/>
                  </a:lnTo>
                  <a:lnTo>
                    <a:pt x="1059" y="802"/>
                  </a:lnTo>
                  <a:lnTo>
                    <a:pt x="1154" y="794"/>
                  </a:lnTo>
                  <a:lnTo>
                    <a:pt x="1246" y="784"/>
                  </a:lnTo>
                  <a:lnTo>
                    <a:pt x="1334" y="769"/>
                  </a:lnTo>
                  <a:lnTo>
                    <a:pt x="1418" y="751"/>
                  </a:lnTo>
                  <a:lnTo>
                    <a:pt x="1496" y="730"/>
                  </a:lnTo>
                  <a:lnTo>
                    <a:pt x="1571" y="707"/>
                  </a:lnTo>
                  <a:lnTo>
                    <a:pt x="1637" y="680"/>
                  </a:lnTo>
                  <a:lnTo>
                    <a:pt x="1670" y="667"/>
                  </a:lnTo>
                  <a:lnTo>
                    <a:pt x="1700" y="650"/>
                  </a:lnTo>
                  <a:lnTo>
                    <a:pt x="1727" y="636"/>
                  </a:lnTo>
                  <a:lnTo>
                    <a:pt x="1754" y="620"/>
                  </a:lnTo>
                  <a:lnTo>
                    <a:pt x="1778" y="603"/>
                  </a:lnTo>
                  <a:lnTo>
                    <a:pt x="1801" y="587"/>
                  </a:lnTo>
                  <a:lnTo>
                    <a:pt x="1823" y="567"/>
                  </a:lnTo>
                  <a:lnTo>
                    <a:pt x="1840" y="550"/>
                  </a:lnTo>
                  <a:lnTo>
                    <a:pt x="1858" y="532"/>
                  </a:lnTo>
                  <a:lnTo>
                    <a:pt x="1872" y="512"/>
                  </a:lnTo>
                  <a:lnTo>
                    <a:pt x="1885" y="493"/>
                  </a:lnTo>
                  <a:lnTo>
                    <a:pt x="1895" y="473"/>
                  </a:lnTo>
                  <a:lnTo>
                    <a:pt x="1905" y="454"/>
                  </a:lnTo>
                  <a:lnTo>
                    <a:pt x="1909" y="434"/>
                  </a:lnTo>
                  <a:lnTo>
                    <a:pt x="1913" y="413"/>
                  </a:lnTo>
                  <a:lnTo>
                    <a:pt x="1913" y="392"/>
                  </a:lnTo>
                  <a:lnTo>
                    <a:pt x="1913" y="372"/>
                  </a:lnTo>
                  <a:lnTo>
                    <a:pt x="1909" y="353"/>
                  </a:lnTo>
                  <a:lnTo>
                    <a:pt x="1901" y="332"/>
                  </a:lnTo>
                  <a:lnTo>
                    <a:pt x="1893" y="312"/>
                  </a:lnTo>
                  <a:lnTo>
                    <a:pt x="1881" y="293"/>
                  </a:lnTo>
                  <a:lnTo>
                    <a:pt x="1870" y="273"/>
                  </a:lnTo>
                  <a:lnTo>
                    <a:pt x="1854" y="255"/>
                  </a:lnTo>
                  <a:lnTo>
                    <a:pt x="1836" y="237"/>
                  </a:lnTo>
                  <a:lnTo>
                    <a:pt x="1815" y="219"/>
                  </a:lnTo>
                  <a:lnTo>
                    <a:pt x="1795" y="201"/>
                  </a:lnTo>
                  <a:lnTo>
                    <a:pt x="1772" y="185"/>
                  </a:lnTo>
                  <a:lnTo>
                    <a:pt x="1747" y="169"/>
                  </a:lnTo>
                  <a:lnTo>
                    <a:pt x="1719" y="154"/>
                  </a:lnTo>
                  <a:lnTo>
                    <a:pt x="1692" y="138"/>
                  </a:lnTo>
                  <a:lnTo>
                    <a:pt x="1663" y="125"/>
                  </a:lnTo>
                  <a:lnTo>
                    <a:pt x="1629" y="112"/>
                  </a:lnTo>
                  <a:lnTo>
                    <a:pt x="1561" y="84"/>
                  </a:lnTo>
                  <a:lnTo>
                    <a:pt x="1487" y="63"/>
                  </a:lnTo>
                  <a:lnTo>
                    <a:pt x="1407" y="45"/>
                  </a:lnTo>
                  <a:lnTo>
                    <a:pt x="1324" y="27"/>
                  </a:lnTo>
                  <a:lnTo>
                    <a:pt x="1235" y="16"/>
                  </a:lnTo>
                  <a:lnTo>
                    <a:pt x="1145" y="6"/>
                  </a:lnTo>
                  <a:lnTo>
                    <a:pt x="1049" y="1"/>
                  </a:lnTo>
                  <a:lnTo>
                    <a:pt x="951" y="0"/>
                  </a:lnTo>
                  <a:lnTo>
                    <a:pt x="951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71400" y="2239920"/>
              <a:ext cx="1940040" cy="501840"/>
              <a:chOff x="671400" y="2239920"/>
              <a:chExt cx="1940040" cy="5018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71400" y="2239920"/>
                <a:ext cx="1936800" cy="498600"/>
                <a:chOff x="671400" y="2239920"/>
                <a:chExt cx="1936800" cy="4986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71400" y="2239920"/>
                  <a:ext cx="1936800" cy="4986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71400" y="2239920"/>
                  <a:ext cx="1936800" cy="498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71400" y="2239920"/>
                  <a:ext cx="1936800" cy="4986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671400" y="2239920"/>
                <a:ext cx="1940040" cy="501840"/>
              </a:xfrm>
              <a:prstGeom prst="rect">
                <a:avLst/>
              </a:prstGeom>
              <a:noFill/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962640" y="232884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9440" y="232884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1800" y="2328840"/>
              <a:ext cx="44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qu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94240" y="23288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55160" y="2328840"/>
              <a:ext cx="68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miq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77200" y="2546280"/>
              <a:ext cx="17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5840" y="25462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1840" y="2546280"/>
              <a:ext cx="17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480" y="25462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59240" y="2546280"/>
              <a:ext cx="15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é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18360" y="25462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2600" y="2546280"/>
              <a:ext cx="1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u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5240" y="254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62520" y="2546280"/>
              <a:ext cx="23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9640" y="5443560"/>
              <a:ext cx="2435400" cy="428760"/>
            </a:xfrm>
            <a:custGeom>
              <a:avLst/>
              <a:gdLst/>
              <a:ahLst/>
              <a:rect l="l" t="t" r="r" b="b"/>
              <a:pathLst>
                <a:path w="1534" h="270">
                  <a:moveTo>
                    <a:pt x="64" y="0"/>
                  </a:moveTo>
                  <a:lnTo>
                    <a:pt x="51" y="1"/>
                  </a:lnTo>
                  <a:lnTo>
                    <a:pt x="39" y="3"/>
                  </a:lnTo>
                  <a:lnTo>
                    <a:pt x="27" y="8"/>
                  </a:lnTo>
                  <a:lnTo>
                    <a:pt x="17" y="14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4" y="235"/>
                  </a:lnTo>
                  <a:lnTo>
                    <a:pt x="10" y="245"/>
                  </a:lnTo>
                  <a:lnTo>
                    <a:pt x="17" y="255"/>
                  </a:lnTo>
                  <a:lnTo>
                    <a:pt x="27" y="261"/>
                  </a:lnTo>
                  <a:lnTo>
                    <a:pt x="39" y="266"/>
                  </a:lnTo>
                  <a:lnTo>
                    <a:pt x="51" y="270"/>
                  </a:lnTo>
                  <a:lnTo>
                    <a:pt x="64" y="270"/>
                  </a:lnTo>
                  <a:lnTo>
                    <a:pt x="1467" y="270"/>
                  </a:lnTo>
                  <a:lnTo>
                    <a:pt x="1481" y="270"/>
                  </a:lnTo>
                  <a:lnTo>
                    <a:pt x="1493" y="266"/>
                  </a:lnTo>
                  <a:lnTo>
                    <a:pt x="1504" y="261"/>
                  </a:lnTo>
                  <a:lnTo>
                    <a:pt x="1516" y="255"/>
                  </a:lnTo>
                  <a:lnTo>
                    <a:pt x="1524" y="245"/>
                  </a:lnTo>
                  <a:lnTo>
                    <a:pt x="1530" y="235"/>
                  </a:lnTo>
                  <a:lnTo>
                    <a:pt x="1532" y="226"/>
                  </a:lnTo>
                  <a:lnTo>
                    <a:pt x="1534" y="216"/>
                  </a:lnTo>
                  <a:lnTo>
                    <a:pt x="1534" y="55"/>
                  </a:lnTo>
                  <a:lnTo>
                    <a:pt x="1532" y="43"/>
                  </a:lnTo>
                  <a:lnTo>
                    <a:pt x="1530" y="34"/>
                  </a:lnTo>
                  <a:lnTo>
                    <a:pt x="1524" y="24"/>
                  </a:lnTo>
                  <a:lnTo>
                    <a:pt x="1516" y="14"/>
                  </a:lnTo>
                  <a:lnTo>
                    <a:pt x="1504" y="8"/>
                  </a:lnTo>
                  <a:lnTo>
                    <a:pt x="1493" y="3"/>
                  </a:lnTo>
                  <a:lnTo>
                    <a:pt x="1481" y="1"/>
                  </a:lnTo>
                  <a:lnTo>
                    <a:pt x="146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9080" y="55609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5200" y="556092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9800" y="5560920"/>
              <a:ext cx="6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6040" y="556092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86520" y="556092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800" y="556092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71120" y="55609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3200" y="556092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23200" y="556092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8520" y="5560920"/>
              <a:ext cx="15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33440" y="5560920"/>
              <a:ext cx="30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9560" y="5560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9320" y="556092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mi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13760" y="556092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93680" y="5560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79000" y="556092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2280" y="5727600"/>
              <a:ext cx="6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14200" y="57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720" y="572760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11120" y="5727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86360" y="572760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-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48440" y="57276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39160" y="57276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37080" y="57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9520" y="5727600"/>
              <a:ext cx="1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6520" y="5727600"/>
              <a:ext cx="4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93040" y="57276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5320" y="5727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88880" y="57276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6480" y="5727600"/>
              <a:ext cx="13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62480" y="57276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28720" y="57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15480" y="57276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77760" y="57276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99720" y="57276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71080" y="57276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43440" y="5727600"/>
              <a:ext cx="4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1400" y="5443560"/>
              <a:ext cx="2349720" cy="428760"/>
            </a:xfrm>
            <a:custGeom>
              <a:avLst/>
              <a:gdLst/>
              <a:ahLst/>
              <a:rect l="l" t="t" r="r" b="b"/>
              <a:pathLst>
                <a:path w="1480" h="270">
                  <a:moveTo>
                    <a:pt x="53" y="0"/>
                  </a:moveTo>
                  <a:lnTo>
                    <a:pt x="41" y="1"/>
                  </a:lnTo>
                  <a:lnTo>
                    <a:pt x="32" y="3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" y="242"/>
                  </a:lnTo>
                  <a:lnTo>
                    <a:pt x="8" y="250"/>
                  </a:lnTo>
                  <a:lnTo>
                    <a:pt x="16" y="257"/>
                  </a:lnTo>
                  <a:lnTo>
                    <a:pt x="24" y="261"/>
                  </a:lnTo>
                  <a:lnTo>
                    <a:pt x="32" y="266"/>
                  </a:lnTo>
                  <a:lnTo>
                    <a:pt x="41" y="270"/>
                  </a:lnTo>
                  <a:lnTo>
                    <a:pt x="53" y="270"/>
                  </a:lnTo>
                  <a:lnTo>
                    <a:pt x="1425" y="270"/>
                  </a:lnTo>
                  <a:lnTo>
                    <a:pt x="1435" y="270"/>
                  </a:lnTo>
                  <a:lnTo>
                    <a:pt x="1446" y="266"/>
                  </a:lnTo>
                  <a:lnTo>
                    <a:pt x="1454" y="261"/>
                  </a:lnTo>
                  <a:lnTo>
                    <a:pt x="1464" y="257"/>
                  </a:lnTo>
                  <a:lnTo>
                    <a:pt x="1470" y="250"/>
                  </a:lnTo>
                  <a:lnTo>
                    <a:pt x="1474" y="242"/>
                  </a:lnTo>
                  <a:lnTo>
                    <a:pt x="1478" y="235"/>
                  </a:lnTo>
                  <a:lnTo>
                    <a:pt x="1480" y="226"/>
                  </a:lnTo>
                  <a:lnTo>
                    <a:pt x="1480" y="45"/>
                  </a:lnTo>
                  <a:lnTo>
                    <a:pt x="1478" y="35"/>
                  </a:lnTo>
                  <a:lnTo>
                    <a:pt x="1474" y="27"/>
                  </a:lnTo>
                  <a:lnTo>
                    <a:pt x="1470" y="19"/>
                  </a:lnTo>
                  <a:lnTo>
                    <a:pt x="1464" y="13"/>
                  </a:lnTo>
                  <a:lnTo>
                    <a:pt x="1454" y="8"/>
                  </a:lnTo>
                  <a:lnTo>
                    <a:pt x="1446" y="3"/>
                  </a:lnTo>
                  <a:lnTo>
                    <a:pt x="1435" y="1"/>
                  </a:lnTo>
                  <a:lnTo>
                    <a:pt x="1425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211040" y="1992240"/>
              <a:ext cx="5739120" cy="3916800"/>
              <a:chOff x="1211040" y="1992240"/>
              <a:chExt cx="5739120" cy="3916800"/>
            </a:xfrm>
          </p:grpSpPr>
          <p:sp>
            <p:nvSpPr>
              <p:cNvPr id="258" name=""/>
              <p:cNvSpPr/>
              <p:nvPr/>
            </p:nvSpPr>
            <p:spPr>
              <a:xfrm>
                <a:off x="1221480" y="5554800"/>
                <a:ext cx="18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C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8276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62680" y="5554800"/>
                <a:ext cx="12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81480" y="5554800"/>
                <a:ext cx="11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688040" y="555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7336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67680" y="55548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4148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30760" y="55548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74320" y="5554800"/>
                <a:ext cx="4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1932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02480" y="5554800"/>
                <a:ext cx="206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lo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00120" y="5554800"/>
                <a:ext cx="12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0992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8624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75520" y="5554800"/>
                <a:ext cx="4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11040" y="57261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3732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9132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34856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18040" y="572616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31800" y="572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24680" y="57261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12880" y="57261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4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47160" y="572616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45800" y="572616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82160" y="572616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10320" y="572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93120" y="572616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288880" y="5726160"/>
                <a:ext cx="4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41800" y="57261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73120" y="57261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454480" y="57261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8220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3620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16840" y="5726160"/>
                <a:ext cx="12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12960" y="2806560"/>
                <a:ext cx="3828960" cy="12826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3600" y="2800440"/>
                <a:ext cx="3843360" cy="12967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24360" y="3111480"/>
                <a:ext cx="3271680" cy="668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7760" y="320364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440" y="3203640"/>
                <a:ext cx="122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6472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65160" y="3203640"/>
                <a:ext cx="346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he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0464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00040" y="3203640"/>
                <a:ext cx="256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h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64280" y="3203640"/>
                <a:ext cx="234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s 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08360" y="320364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33640" y="3203640"/>
                <a:ext cx="200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38840" y="3203640"/>
                <a:ext cx="22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rd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59160" y="3203640"/>
                <a:ext cx="160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2044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25920" y="3203640"/>
                <a:ext cx="57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4160" y="3203640"/>
                <a:ext cx="189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pl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39040" y="3203640"/>
                <a:ext cx="1911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11480" y="3203640"/>
                <a:ext cx="122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25960" y="3203640"/>
                <a:ext cx="57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88600" y="3203640"/>
                <a:ext cx="90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77520" y="3203640"/>
                <a:ext cx="122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452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04280" y="3443400"/>
                <a:ext cx="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65120" y="3443400"/>
                <a:ext cx="15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08040" y="3443400"/>
                <a:ext cx="23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36640" y="344340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16200" y="344340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8840" y="34434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0880" y="3443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87200" y="3443400"/>
                <a:ext cx="135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15360" y="34434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47400" y="3443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13280" y="3443400"/>
                <a:ext cx="287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-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75720" y="3443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61040" y="34434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61480" y="3443400"/>
                <a:ext cx="23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è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92280" y="360828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71480" y="3608280"/>
                <a:ext cx="156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29160" y="360828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8748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63800" y="3608280"/>
                <a:ext cx="20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540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37040" y="36082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24520" y="36082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00480" y="36082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9876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79400" y="36082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55000" y="36082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01080" y="360828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d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3356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17080" y="3608280"/>
                <a:ext cx="8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02400" y="36082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75480" y="36082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2640" y="360828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7952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65560" y="360828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18840" y="3608280"/>
                <a:ext cx="133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34040" y="3608280"/>
                <a:ext cx="25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 é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7740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69560" y="360828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06360" y="360828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65040" y="36082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38840" y="36082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26680" y="36082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46840" y="3608280"/>
                <a:ext cx="18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q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460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21080" y="1992240"/>
                <a:ext cx="2068560" cy="81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28080" y="2081160"/>
                <a:ext cx="104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30680" y="2081160"/>
                <a:ext cx="69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6560" y="2081160"/>
                <a:ext cx="9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93040" y="2081160"/>
                <a:ext cx="7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7152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67640" y="2081160"/>
                <a:ext cx="7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42160" y="2081160"/>
                <a:ext cx="30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su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540960" y="20811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63672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104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81080" y="2081160"/>
                <a:ext cx="162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4776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98844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76640" y="2081160"/>
                <a:ext cx="180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x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66360" y="2081160"/>
                <a:ext cx="6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3836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4360" y="2081160"/>
                <a:ext cx="9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60040" y="2081160"/>
                <a:ext cx="10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85040" y="22780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8584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55320" y="2278080"/>
                <a:ext cx="32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mi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67440" y="22780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398040" y="2278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73640" y="2278080"/>
                <a:ext cx="25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 é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1700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08800" y="227808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45960" y="227808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004280" y="2278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79880" y="2278080"/>
                <a:ext cx="135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19724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7284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5420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85040" y="24462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1240" y="24462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4460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1444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90760" y="2446200"/>
                <a:ext cx="168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39080" y="24462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26560" y="244620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00360" y="2446200"/>
                <a:ext cx="180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 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91160" y="244620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54880" y="24462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99880" y="244620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56760" y="2446200"/>
                <a:ext cx="21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61240" y="2446200"/>
                <a:ext cx="8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93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2432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8640" y="24462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424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67640" y="26146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255840" y="261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39720" y="26146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391920" y="261468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l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72560" y="261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46360" y="26146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28080" y="261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05480" y="26146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56320" y="26146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899520" y="2614680"/>
                <a:ext cx="12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03560" y="2614680"/>
                <a:ext cx="27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dé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53400" y="261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36560" y="26146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03880" y="26146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é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86480" y="1992240"/>
                <a:ext cx="2263680" cy="81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04640" y="20811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03640" y="2081160"/>
                <a:ext cx="162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163480" y="20811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5924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353920" y="2081160"/>
                <a:ext cx="14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96120" y="2081160"/>
                <a:ext cx="172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70000" y="2081160"/>
                <a:ext cx="14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26240" y="2081160"/>
                <a:ext cx="15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éf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8500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063480" y="2081160"/>
                <a:ext cx="10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68960" y="2081160"/>
                <a:ext cx="6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38440" y="2081160"/>
                <a:ext cx="7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1692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6696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03320" y="2081160"/>
                <a:ext cx="10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89360" y="2081160"/>
                <a:ext cx="203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93120" y="20811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i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47200" y="22780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131440" y="2278080"/>
                <a:ext cx="241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355720" y="2278080"/>
                <a:ext cx="156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92160" y="2278080"/>
                <a:ext cx="18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p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69280" y="22780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06720" y="22780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7440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6116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53680" y="2278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2928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47200" y="24462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28200" y="2446200"/>
                <a:ext cx="27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h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8020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54000" y="2446200"/>
                <a:ext cx="180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01960" y="2446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5803920" y="24462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94280" y="24462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29640" y="24462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62040" y="244620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37720" y="24462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63640" y="244620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34640" y="244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11320" y="24462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81520" y="244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7200" y="2611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53400" y="261144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0676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76960" y="2611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52920" y="2611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01240" y="2611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8720" y="2611440"/>
              <a:ext cx="6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65760" y="2611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61880" y="2611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972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200" y="261144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8228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67600" y="261144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29880" y="2611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6660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0120" y="261144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79760" y="5443560"/>
              <a:ext cx="2435400" cy="428760"/>
            </a:xfrm>
            <a:custGeom>
              <a:avLst/>
              <a:gdLst/>
              <a:ahLst/>
              <a:rect l="l" t="t" r="r" b="b"/>
              <a:pathLst>
                <a:path w="1534" h="270">
                  <a:moveTo>
                    <a:pt x="53" y="0"/>
                  </a:moveTo>
                  <a:lnTo>
                    <a:pt x="43" y="1"/>
                  </a:lnTo>
                  <a:lnTo>
                    <a:pt x="33" y="3"/>
                  </a:lnTo>
                  <a:lnTo>
                    <a:pt x="23" y="8"/>
                  </a:lnTo>
                  <a:lnTo>
                    <a:pt x="15" y="13"/>
                  </a:lnTo>
                  <a:lnTo>
                    <a:pt x="10" y="19"/>
                  </a:lnTo>
                  <a:lnTo>
                    <a:pt x="4" y="27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0" y="226"/>
                  </a:lnTo>
                  <a:lnTo>
                    <a:pt x="2" y="235"/>
                  </a:lnTo>
                  <a:lnTo>
                    <a:pt x="4" y="242"/>
                  </a:lnTo>
                  <a:lnTo>
                    <a:pt x="10" y="250"/>
                  </a:lnTo>
                  <a:lnTo>
                    <a:pt x="15" y="257"/>
                  </a:lnTo>
                  <a:lnTo>
                    <a:pt x="23" y="261"/>
                  </a:lnTo>
                  <a:lnTo>
                    <a:pt x="33" y="266"/>
                  </a:lnTo>
                  <a:lnTo>
                    <a:pt x="43" y="270"/>
                  </a:lnTo>
                  <a:lnTo>
                    <a:pt x="53" y="270"/>
                  </a:lnTo>
                  <a:lnTo>
                    <a:pt x="1479" y="270"/>
                  </a:lnTo>
                  <a:lnTo>
                    <a:pt x="1491" y="270"/>
                  </a:lnTo>
                  <a:lnTo>
                    <a:pt x="1501" y="266"/>
                  </a:lnTo>
                  <a:lnTo>
                    <a:pt x="1510" y="261"/>
                  </a:lnTo>
                  <a:lnTo>
                    <a:pt x="1518" y="257"/>
                  </a:lnTo>
                  <a:lnTo>
                    <a:pt x="1524" y="250"/>
                  </a:lnTo>
                  <a:lnTo>
                    <a:pt x="1528" y="242"/>
                  </a:lnTo>
                  <a:lnTo>
                    <a:pt x="1532" y="235"/>
                  </a:lnTo>
                  <a:lnTo>
                    <a:pt x="1534" y="226"/>
                  </a:lnTo>
                  <a:lnTo>
                    <a:pt x="1534" y="45"/>
                  </a:lnTo>
                  <a:lnTo>
                    <a:pt x="1532" y="35"/>
                  </a:lnTo>
                  <a:lnTo>
                    <a:pt x="1528" y="27"/>
                  </a:lnTo>
                  <a:lnTo>
                    <a:pt x="1524" y="19"/>
                  </a:lnTo>
                  <a:lnTo>
                    <a:pt x="1518" y="13"/>
                  </a:lnTo>
                  <a:lnTo>
                    <a:pt x="1510" y="8"/>
                  </a:lnTo>
                  <a:lnTo>
                    <a:pt x="1501" y="3"/>
                  </a:lnTo>
                  <a:lnTo>
                    <a:pt x="1491" y="1"/>
                  </a:lnTo>
                  <a:lnTo>
                    <a:pt x="1479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17520" y="555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07880" y="5554800"/>
              <a:ext cx="34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6720" y="555480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d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84880" y="55548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59400" y="55548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472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828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08080" y="555480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n 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7760" y="55548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2760" y="55548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4880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64640" y="555480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7812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14120" y="5554800"/>
              <a:ext cx="25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à 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35000" y="5726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06360" y="572616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28760" y="572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08320" y="5726160"/>
              <a:ext cx="19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99840" y="572616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99920" y="57261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26920" y="57261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96480" y="5726160"/>
              <a:ext cx="1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22120" y="572616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3320" y="572616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49280" y="57261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29280" y="5726160"/>
              <a:ext cx="1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79760" y="57261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92520" y="572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79640" y="572616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04840" y="572616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74040" y="572616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41720" y="572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040" y="2865600"/>
              <a:ext cx="2449440" cy="112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760" y="29541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8236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74160" y="2954160"/>
              <a:ext cx="17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35800" y="295416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156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2160" y="295416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76800" y="295416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58160" y="295416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676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5200" y="2954160"/>
              <a:ext cx="34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40560" y="295416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3880" y="295416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0976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9832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49800" y="295416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21080" y="2954160"/>
              <a:ext cx="17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87760" y="31464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8856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76760" y="3146400"/>
              <a:ext cx="8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62440" y="31464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1640" y="31464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3884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24160" y="31464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8644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08400" y="31464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87760" y="331632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0000" y="331632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30040" y="331632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59280" y="331632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21920" y="3316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07960" y="331632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61240" y="3316320"/>
              <a:ext cx="13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76440" y="331632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7760" y="3484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87840" y="3484440"/>
              <a:ext cx="15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480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7600" y="34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852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74840" y="348444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g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7860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65000" y="34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48880" y="3484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91000" y="348444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5760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34280" y="3484440"/>
              <a:ext cx="32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9080" y="365112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5920" y="365112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32760" y="3651120"/>
              <a:ext cx="17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l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06640" y="365112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0240" y="3651120"/>
              <a:ext cx="10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10040" y="3651120"/>
              <a:ext cx="23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36120" y="365112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252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58960" y="36511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7748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23560" y="36511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98080" y="365112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9204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3776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78440" y="3651120"/>
              <a:ext cx="19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70680" y="36511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9080" y="38448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38448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8360" y="38448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08000" y="38448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8000" y="38448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44080" y="38448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90160" y="38448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65040" y="38448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63680" y="38448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70960" y="38448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55200" y="38448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53200" y="2865600"/>
              <a:ext cx="2305080" cy="1022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66320" y="295416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8440" y="295416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6864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15800" y="29541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8032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77880" y="295416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952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5880" y="295416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77320" y="2954160"/>
              <a:ext cx="1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11960" y="2954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1132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03840" y="295416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376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30560" y="2954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2632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27480" y="2954160"/>
              <a:ext cx="15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f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87320" y="295416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u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13920" y="31464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08240" y="314640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26320" y="31464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0128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53840" y="31464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f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51400" y="3146400"/>
              <a:ext cx="15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10520" y="31464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04840" y="31464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80440" y="31464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6792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00320" y="314640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773480" y="3146400"/>
              <a:ext cx="1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71760" y="31464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9380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80560" y="31464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42480" y="31464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é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9008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2716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98800" y="314640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80000" y="331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8296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14640" y="3314880"/>
              <a:ext cx="15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48560" y="3314880"/>
              <a:ext cx="1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u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3200" y="331488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79320" y="331488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5132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89120" y="331488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78760" y="3314880"/>
              <a:ext cx="1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4120" y="3314880"/>
              <a:ext cx="19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06000" y="331488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8880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1720" y="3314880"/>
              <a:ext cx="11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63760" y="331488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32160" y="3314880"/>
              <a:ext cx="19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2116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61480" y="331488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59040" y="331488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2924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67040" y="331488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52720" y="331488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448120" y="331488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13920" y="3506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8240" y="350676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353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19920" y="350676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775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50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55720" y="350676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26720" y="350676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34360" y="35067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12560" y="350676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3800" y="35067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03000" y="3506760"/>
              <a:ext cx="19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l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92720" y="3506760"/>
              <a:ext cx="1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12240" y="350676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13920" y="36752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05000" y="367524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66640" y="3675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2000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9452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78400" y="367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44640" y="3675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70640" y="367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48040" y="3675240"/>
              <a:ext cx="15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8160" y="36752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39920" y="367524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04720" y="3675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71680" y="3675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0424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7948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61200" y="367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 Black"/>
              </a:rPr>
              <a:t>Physique et chimie des matériaux</a:t>
            </a:r>
            <a:br>
              <a:rPr sz="30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aen, Lyon, IPN Orsay, CSNSM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9" name=""/>
          <p:cNvSpPr/>
          <p:nvPr/>
        </p:nvSpPr>
        <p:spPr>
          <a:xfrm>
            <a:off x="6934320" y="632448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6400800"/>
            <a:ext cx="1828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647712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0640" y="6308640"/>
            <a:ext cx="63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élérateurs: GANIL, Tandem Orsay, VdG L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Faisceaux d ’agrégats</a:t>
            </a:r>
            <a:br>
              <a:rPr sz="36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Lyon, Orsay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00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ction d ’agrégats sur les s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lvé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uffage par les agrég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5164200" y="1295280"/>
            <a:ext cx="3979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46000" y="228600"/>
            <a:ext cx="396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20" y="13716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La pluridisciplinarité: une richesse pour l ’IN2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pondre à la demande de la société en utilisant nos 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verture vers d ’autres champs disciplinaires là où nos compétences le justifi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avec SPM, SC,INSU, S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r ces activités à travers des programmes interdisciplinaires - importance du lien avec les ré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écessité d ’une évaluation contin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9720" y="304920"/>
            <a:ext cx="7880040" cy="1312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Le programme sur l’Aval du Cyc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Electronucléaire (P.A.C.E.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21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440" y="1752480"/>
            <a:ext cx="79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Les déchets nucléa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 an, combustible usé sortant d’un réacteur R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0.4 t d’uranium, 0.21 t de plut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6 kg d’actinides mineurs (Np, Am,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45 kg de produits de fission dont 10% de PF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920" y="3809880"/>
            <a:ext cx="761328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i du 30 décembre 1991 définit les grandes orien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 recherche sur la gestion des déchets radioactif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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éparation et transmutation des déch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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ockage en formation géologique prof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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édés de Conditionnement et d’entrepo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ilan en fi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5680" y="6480"/>
            <a:ext cx="8153640" cy="30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R GEDEON: Trans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esures de données nucléaires (métr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OF (CERN), HI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utronique des milieux sous-cri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E-IV à Cadarache (MASU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jet de démonstrateur: réacteur hybride (X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élérateur (1GeV p) de haute intensité + réacteur sous-cri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PHI (CEA-IN2P3), MEGAPIE (PSI- Suis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1920" y="3048120"/>
            <a:ext cx="7561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R PRACTIS: physico-chimie des actinides 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res radioélé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tement, Sé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rtement aux interfaces, stockage, entrepo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724280"/>
            <a:ext cx="7772400" cy="1252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MADE: NOuveaux Matériaux pour Déch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age et entreposage rever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veaux matériaux pour le condi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195800">
            <a:off x="-2684520" y="2695680"/>
            <a:ext cx="58928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GROUPEMENTS DE RECHER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5943600"/>
            <a:ext cx="5529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PRO: Formations géologiques PROfondes (INS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11280" y="888840"/>
            <a:ext cx="61214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473040"/>
            <a:ext cx="8305920" cy="155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verture récente vers des recherches innovantes sur l’énergie nucléaire du fut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960" y="2590920"/>
            <a:ext cx="737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Cycle du tho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Réacteurs à sels fond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jet PEREN à I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ollaboration IN2P3 - SC - (C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Activité de simulation (IPNO-ISN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040" y="5408640"/>
            <a:ext cx="73969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gramme pluridisciplinaire ENERGIE du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0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à profit du savoir faire de l ’</a:t>
            </a:r>
            <a:r>
              <a:rPr b="1" i="1" lang="fr-FR" sz="2400" spc="-1" strike="noStrike">
                <a:solidFill>
                  <a:srgbClr val="0000ff"/>
                </a:solidFill>
                <a:latin typeface="Arial Black"/>
              </a:rPr>
              <a:t>IN2P3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dans les techniques de dét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e particules, électronique, modélisation et utilisation des accélér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 Black"/>
              </a:rPr>
              <a:t>INTERFACE PHYSIQUE - MEDECINE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48720" y="6238800"/>
            <a:ext cx="1295280" cy="61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4960" y="3962520"/>
            <a:ext cx="292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ACCELERAT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13372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adiologie X (Strasbourg, Marsei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decine nucléaire: PET, SPECT, gamma-caméra compacte, scintimammograph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Orsay, Grenoble, Clermont, Ly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itoring et dosimétrie en radiothérapie (Ca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2666880"/>
            <a:ext cx="2133720" cy="17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299360" y="234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21360" y="2743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amma-caméra PO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5960" y="1752480"/>
            <a:ext cx="2852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1560" y="5257800"/>
            <a:ext cx="2392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BIO-MATER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7280" y="4343400"/>
            <a:ext cx="579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utien technique pour protonthérapie (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hadronthérapie (projet Ly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136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irurgie orthopédique (Clerm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 Black"/>
              </a:rPr>
              <a:t>IN2P3</a:t>
            </a:r>
            <a:r>
              <a:rPr b="1" lang="fr-FR" sz="2800" spc="-1" strike="noStrike">
                <a:solidFill>
                  <a:srgbClr val="0000ff"/>
                </a:solidFill>
                <a:latin typeface="Arial Black"/>
              </a:rPr>
              <a:t>: INTERFACE PHYSIQUE-BI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43680" y="6238800"/>
            <a:ext cx="1295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43680" y="6242040"/>
            <a:ext cx="1295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843680" y="6242040"/>
            <a:ext cx="1295640" cy="6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52388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Autoradiographie et radiochromatographie (IPN, L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Imagerie petits animaux in-vivo, micro-PET (neurobiologie, oncolo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rsay, Lyon, Clerm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Imagerie X pour cristallographie des protéines (Strasbourg, Marsei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Analyse à l ’échelle cellulaire et sub-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micro-faisceau d ’ions (Bordeau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Séquençage de l ’ADN (IPN 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4400" y="3124080"/>
            <a:ext cx="1837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icro-sonde Bord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0440" y="1143000"/>
            <a:ext cx="2704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029200"/>
            <a:ext cx="57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Neurosciences (Orsay, Ly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Génomique, post-génomique (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Radiobiologie et dosimétrie (Bordeaux)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ioinformatique (Clermo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3080" y="4572000"/>
            <a:ext cx="54309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DELISATION ET ANALYSE DE DONN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705720" y="0"/>
            <a:ext cx="24382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Effets des Faibles doses</a:t>
            </a:r>
            <a:br>
              <a:rPr sz="36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ordeaux, Lyon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an de Graaf (Bordeau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ojet AIF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0,2 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ule par cellule et contrôlée ion par 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 - Agréga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iologiques (Ly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51055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Micrométéorites</a:t>
            </a:r>
            <a:br>
              <a:rPr sz="36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SNSM Orsay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00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ecte de micrométéorites dans les glaces pol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par microsonde io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herche de molécules organiques et liaisons avec le vi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6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2:49:38Z</dcterms:created>
  <dc:creator>IN2P3</dc:creator>
  <dc:description/>
  <dc:language>en-US</dc:language>
  <cp:lastModifiedBy>D.GUERREAU</cp:lastModifiedBy>
  <cp:lastPrinted>2002-05-05T10:37:45Z</cp:lastPrinted>
  <dcterms:modified xsi:type="dcterms:W3CDTF">2002-05-07T07:01:05Z</dcterms:modified>
  <cp:revision>29</cp:revision>
  <dc:subject/>
  <dc:title>MESURES DE BASSE RADIOACTIVITÉ Modane, Clermont, Grenoble, Nantes, Orsay, Strasbourg</dc:title>
</cp:coreProperties>
</file>